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A46-0156-4E57-B6D8-2BB72C5A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6C1-ABDA-4533-B827-D7C1A3EA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3E7-30B1-44AD-8CDE-4E7B4241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CCB-F628-409A-92DF-2F256EB7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F6D-174A-4766-81F8-B8A94C30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A2E-10A7-4716-A9C6-BF1E9A81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87E-FC7A-4D51-A391-9381C75A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F3C-7D2F-4212-A079-6FE295E3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A9C-DFD9-42FB-8030-E2987CB1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118-FD06-4719-96F2-73272E43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BDE-CADD-4821-8D0F-CB90937F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8BC-7B22-4958-AC9B-64DBA160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C6EE-F5B8-43D5-9083-2286B4EC3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100188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9920" y="1077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1320" y="42782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435456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1120" y="298296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1120" y="305928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40120" y="40496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40120" y="41259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3840" y="10778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6120" y="1154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8920" y="2144880"/>
            <a:ext cx="6098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92960" y="2144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49560" y="450684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92360" y="3363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92360" y="153504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25520" y="1154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3440" y="435456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99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639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971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5211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73440" y="450684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9732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50160" y="1459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31040" y="145908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569640" y="359172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4996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49760" y="13064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07320" y="1306440"/>
            <a:ext cx="76104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8720" y="168768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1844280" y="1002600"/>
            <a:ext cx="7621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15480" y="1154160"/>
            <a:ext cx="834120" cy="10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49400" y="1230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49400" y="115416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6680" y="614520"/>
            <a:ext cx="76212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3604320" y="469080"/>
            <a:ext cx="622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6142961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614296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02040" y="62064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44840" y="9255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2160" y="1230480"/>
            <a:ext cx="694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1692360" y="3898080"/>
            <a:ext cx="9730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68920" y="1230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4520" y="3821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3640" y="4964040"/>
            <a:ext cx="609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4520" y="31352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4520" y="2678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25520" y="237348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5520" y="2357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C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4520" y="3821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4520" y="3135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4520" y="2678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4520" y="11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7400" y="2527200"/>
            <a:ext cx="5562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44760" y="2449440"/>
            <a:ext cx="6948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59040" y="25257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83120" y="2906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6053400" y="1517400"/>
            <a:ext cx="990000" cy="41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946040" y="1710720"/>
            <a:ext cx="1431720" cy="6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515200" y="1852920"/>
            <a:ext cx="1372680" cy="2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1347"/>
                </a:moveTo>
                <a:arcTo wR="10800" hR="10800" stAng="10625657" swAng="11310452"/>
                <a:lnTo>
                  <a:pt x="10800" y="10800"/>
                </a:lnTo>
                <a:close/>
              </a:path>
              <a:path fill="none" w="21600" h="21600">
                <a:moveTo>
                  <a:pt x="14" y="11347"/>
                </a:moveTo>
                <a:arcTo wR="10800" hR="10800" stAng="10625657" swAng="1131045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45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1117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73640" y="4964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269400">
            <a:off x="5522400" y="4506120"/>
            <a:ext cx="973800" cy="90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0079"/>
                </a:moveTo>
                <a:arcTo wR="10800" hR="10800" stAng="-10570300" swAng="10906409"/>
                <a:lnTo>
                  <a:pt x="10800" y="10800"/>
                </a:lnTo>
                <a:close/>
              </a:path>
              <a:path fill="none" w="21600" h="21600">
                <a:moveTo>
                  <a:pt x="24" y="10079"/>
                </a:moveTo>
                <a:arcTo wR="10800" hR="10800" stAng="-10570300" swAng="1090640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92960" y="48880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64360" y="5040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73640" y="-213480"/>
            <a:ext cx="925200" cy="83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232960" y="3177360"/>
            <a:ext cx="761760" cy="83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" y="11932"/>
                </a:moveTo>
                <a:arcTo wR="10800" hR="10800" stAng="10439138" swAng="11496971"/>
                <a:lnTo>
                  <a:pt x="10800" y="10800"/>
                </a:lnTo>
                <a:close/>
              </a:path>
              <a:path fill="none" w="21600" h="21600">
                <a:moveTo>
                  <a:pt x="59" y="11932"/>
                </a:moveTo>
                <a:arcTo wR="10800" hR="10800" stAng="10439138" swAng="1149697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8560" y="321156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25720" y="2220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273640" y="163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20960" y="394596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3902400" y="379332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149560" y="592920"/>
            <a:ext cx="53280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82720" y="772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20960" y="4201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35560" y="40496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7344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696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450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594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3044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096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05400" y="228888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534840" y="2206800"/>
            <a:ext cx="685440" cy="71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25720" y="28306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02040" y="21448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02040" y="2754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49960" y="3516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73640" y="1916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59440" y="1763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5320" y="45068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427280" y="190800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9240" y="1778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9240" y="2311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663800" y="24494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21160" y="3592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92560" y="35924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353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39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9720" y="4278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972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9960" y="620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40320" y="43084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42022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8784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9276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2136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64360" y="16876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21560" y="1763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78560" y="2906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416120" y="1527840"/>
            <a:ext cx="536040" cy="55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5470218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547021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30640" y="145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02040" y="4064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20960" y="4202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25520" y="925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2240" y="392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97120" y="24494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H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7840" y="20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45240" y="1611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97200" y="5288040"/>
          <a:ext cx="324792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7200" y="5288040"/>
                    <a:ext cx="32479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221120" y="123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4840" y="478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38240" y="47520"/>
            <a:ext cx="6799320" cy="67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38240" y="44280"/>
            <a:ext cx="66848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47520"/>
            <a:ext cx="72198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4:39:28Z</dcterms:created>
  <dc:creator>Tomas Radivoyevitch</dc:creator>
  <dc:description/>
  <dc:language>en-US</dc:language>
  <cp:lastModifiedBy>Tomas Radivoyevitch</cp:lastModifiedBy>
  <dcterms:modified xsi:type="dcterms:W3CDTF">2005-05-26T20:05:09Z</dcterms:modified>
  <cp:revision>12</cp:revision>
  <dc:subject/>
  <dc:title>Slide 1</dc:title>
</cp:coreProperties>
</file>