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4077-E0F3-406F-9D88-0C804155D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D8B8-B954-43B4-AE09-3F87F59C7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D738-33CA-4247-8E24-3A331F490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E197-69E1-4245-ADEF-EA35CA45B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DF62-D697-456F-9794-728EC98B6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D87D-ABA3-42FA-8F42-553EFCF4D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3722-8771-4002-879C-2AF79F381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3949-49E0-432D-A98E-CBD86276C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FDB0-71EE-4CD8-867E-63DDE3E30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E63E-D72A-47EC-84F0-7E11F53B8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F347-85BB-4C68-AAEA-45304CDA5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95C1-849E-45AD-BBF6-771416329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BD248-6662-4BFC-9B8C-1363471B19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595600" y="193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4T13:10:27Z</dcterms:created>
  <dc:creator>d003179</dc:creator>
  <dc:description>EP Sample Development Landscape.ppt</dc:description>
  <cp:keywords>Development Landscape</cp:keywords>
  <dc:language>en-US</dc:language>
  <cp:lastModifiedBy>d003179</cp:lastModifiedBy>
  <dcterms:modified xsi:type="dcterms:W3CDTF">2003-06-24T13:13:12Z</dcterms:modified>
  <cp:revision>1</cp:revision>
  <dc:subject/>
  <dc:title>Sample Development Landscape</dc:title>
</cp:coreProperties>
</file>