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C66398B4-DC5D-4BCC-AB8B-03EA8A0D526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600200"/>
            <a:ext cx="769140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CO, Lt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oject AIM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ortal Business Drivers</a:t>
            </a:r>
            <a:br>
              <a:rPr sz="2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6000" y="609480"/>
            <a:ext cx="8534160" cy="5677200"/>
          </a:xfrm>
          <a:prstGeom prst="donut">
            <a:avLst>
              <a:gd name="adj" fmla="val 8453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240" y="66600"/>
            <a:ext cx="778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ortal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11960" y="4203720"/>
            <a:ext cx="1662120" cy="1295280"/>
          </a:xfrm>
          <a:prstGeom prst="flowChartMagneticDisk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Z Pl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11960" y="1359000"/>
            <a:ext cx="1662120" cy="1295280"/>
          </a:xfrm>
          <a:prstGeom prst="flowChartMagneticDisk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YY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7720" y="1359000"/>
            <a:ext cx="1662120" cy="1295280"/>
          </a:xfrm>
          <a:prstGeom prst="flowChartMagneticDisk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7720" y="4203720"/>
            <a:ext cx="1662120" cy="1295280"/>
          </a:xfrm>
          <a:prstGeom prst="flowChartMagneticDisk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X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2200" y="431640"/>
            <a:ext cx="1968480" cy="1549440"/>
          </a:xfrm>
          <a:prstGeom prst="cloudCallout">
            <a:avLst>
              <a:gd name="adj1" fmla="val -30240"/>
              <a:gd name="adj2" fmla="val 143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0240" y="5460840"/>
            <a:ext cx="2425680" cy="1117800"/>
          </a:xfrm>
          <a:prstGeom prst="flowChartMultidocumen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235240"/>
            <a:ext cx="2019600" cy="18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gration of different content sources and applications in the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9240" y="66600"/>
            <a:ext cx="778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rivers/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" y="3200400"/>
            <a:ext cx="8574120" cy="398880"/>
            <a:chOff x="255600" y="3200400"/>
            <a:chExt cx="8574120" cy="398880"/>
          </a:xfrm>
        </p:grpSpPr>
        <p:sp>
          <p:nvSpPr>
            <p:cNvPr id="56" name=""/>
            <p:cNvSpPr/>
            <p:nvPr/>
          </p:nvSpPr>
          <p:spPr>
            <a:xfrm>
              <a:off x="630360" y="320040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The right information, at the right time, for the right peo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255600" y="327636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255600" y="2590920"/>
            <a:ext cx="8574120" cy="398880"/>
            <a:chOff x="255600" y="2590920"/>
            <a:chExt cx="8574120" cy="398880"/>
          </a:xfrm>
        </p:grpSpPr>
        <p:sp>
          <p:nvSpPr>
            <p:cNvPr id="59" name=""/>
            <p:cNvSpPr/>
            <p:nvPr/>
          </p:nvSpPr>
          <p:spPr>
            <a:xfrm>
              <a:off x="630360" y="259092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Personalized cont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255600" y="266688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255600" y="1766880"/>
            <a:ext cx="8574120" cy="703800"/>
            <a:chOff x="255600" y="1766880"/>
            <a:chExt cx="8574120" cy="703800"/>
          </a:xfrm>
        </p:grpSpPr>
        <p:sp>
          <p:nvSpPr>
            <p:cNvPr id="62" name=""/>
            <p:cNvSpPr/>
            <p:nvPr/>
          </p:nvSpPr>
          <p:spPr>
            <a:xfrm>
              <a:off x="630360" y="1766880"/>
              <a:ext cx="8199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Role-based assignment of functions and information to company internal or external user groups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255600" y="184320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219240" y="100656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r-Centric Integration of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55600" y="4648320"/>
            <a:ext cx="8574120" cy="398880"/>
            <a:chOff x="255600" y="4648320"/>
            <a:chExt cx="8574120" cy="398880"/>
          </a:xfrm>
        </p:grpSpPr>
        <p:sp>
          <p:nvSpPr>
            <p:cNvPr id="66" name=""/>
            <p:cNvSpPr/>
            <p:nvPr/>
          </p:nvSpPr>
          <p:spPr>
            <a:xfrm>
              <a:off x="630360" y="464832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ingle sign-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255600" y="472428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255600" y="3809880"/>
            <a:ext cx="8574120" cy="703800"/>
            <a:chOff x="255600" y="3809880"/>
            <a:chExt cx="8574120" cy="703800"/>
          </a:xfrm>
        </p:grpSpPr>
        <p:sp>
          <p:nvSpPr>
            <p:cNvPr id="69" name=""/>
            <p:cNvSpPr/>
            <p:nvPr/>
          </p:nvSpPr>
          <p:spPr>
            <a:xfrm>
              <a:off x="630360" y="3809880"/>
              <a:ext cx="8199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Automatic alerts and workflow functions to solve push and pull conflicts between employe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255600" y="388620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9240" y="66600"/>
            <a:ext cx="778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rivers/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55600" y="2360520"/>
            <a:ext cx="8574120" cy="398880"/>
            <a:chOff x="255600" y="2360520"/>
            <a:chExt cx="8574120" cy="398880"/>
          </a:xfrm>
        </p:grpSpPr>
        <p:sp>
          <p:nvSpPr>
            <p:cNvPr id="73" name=""/>
            <p:cNvSpPr/>
            <p:nvPr/>
          </p:nvSpPr>
          <p:spPr>
            <a:xfrm>
              <a:off x="630360" y="236052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Process-aligned 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55600" y="243684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255600" y="1766880"/>
            <a:ext cx="8574120" cy="398880"/>
            <a:chOff x="255600" y="1766880"/>
            <a:chExt cx="8574120" cy="398880"/>
          </a:xfrm>
        </p:grpSpPr>
        <p:sp>
          <p:nvSpPr>
            <p:cNvPr id="76" name=""/>
            <p:cNvSpPr/>
            <p:nvPr/>
          </p:nvSpPr>
          <p:spPr>
            <a:xfrm>
              <a:off x="630360" y="176688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ross-application consistency of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255600" y="184284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219240" y="930240"/>
            <a:ext cx="7785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cess-Oriented Integration of Systems Across System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55600" y="3657600"/>
            <a:ext cx="8574120" cy="398880"/>
            <a:chOff x="255600" y="3657600"/>
            <a:chExt cx="8574120" cy="398880"/>
          </a:xfrm>
        </p:grpSpPr>
        <p:sp>
          <p:nvSpPr>
            <p:cNvPr id="80" name=""/>
            <p:cNvSpPr/>
            <p:nvPr/>
          </p:nvSpPr>
          <p:spPr>
            <a:xfrm>
              <a:off x="630360" y="365760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ross application navig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255600" y="373356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"/>
          <p:cNvGrpSpPr/>
          <p:nvPr/>
        </p:nvGrpSpPr>
        <p:grpSpPr>
          <a:xfrm>
            <a:off x="255600" y="2963880"/>
            <a:ext cx="8574120" cy="398880"/>
            <a:chOff x="255600" y="2963880"/>
            <a:chExt cx="8574120" cy="398880"/>
          </a:xfrm>
        </p:grpSpPr>
        <p:sp>
          <p:nvSpPr>
            <p:cNvPr id="83" name=""/>
            <p:cNvSpPr/>
            <p:nvPr/>
          </p:nvSpPr>
          <p:spPr>
            <a:xfrm>
              <a:off x="630360" y="296388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Unified user interface (cross applicatio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255600" y="303984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255600" y="4302000"/>
            <a:ext cx="8574120" cy="398880"/>
            <a:chOff x="255600" y="4302000"/>
            <a:chExt cx="8574120" cy="398880"/>
          </a:xfrm>
        </p:grpSpPr>
        <p:sp>
          <p:nvSpPr>
            <p:cNvPr id="86" name=""/>
            <p:cNvSpPr/>
            <p:nvPr/>
          </p:nvSpPr>
          <p:spPr>
            <a:xfrm>
              <a:off x="630360" y="430200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Decentralized availability of systems and cont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255600" y="437832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255600" y="4886280"/>
            <a:ext cx="8574120" cy="398880"/>
            <a:chOff x="255600" y="4886280"/>
            <a:chExt cx="8574120" cy="398880"/>
          </a:xfrm>
        </p:grpSpPr>
        <p:sp>
          <p:nvSpPr>
            <p:cNvPr id="89" name=""/>
            <p:cNvSpPr/>
            <p:nvPr/>
          </p:nvSpPr>
          <p:spPr>
            <a:xfrm>
              <a:off x="630360" y="488628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onsolidated security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6"/>
            <a:stretch/>
          </p:blipFill>
          <p:spPr>
            <a:xfrm>
              <a:off x="255600" y="496260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9240" y="66600"/>
            <a:ext cx="778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rivers/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5600" y="3048120"/>
            <a:ext cx="8574120" cy="398880"/>
            <a:chOff x="255600" y="3048120"/>
            <a:chExt cx="8574120" cy="398880"/>
          </a:xfrm>
        </p:grpSpPr>
        <p:sp>
          <p:nvSpPr>
            <p:cNvPr id="93" name=""/>
            <p:cNvSpPr/>
            <p:nvPr/>
          </p:nvSpPr>
          <p:spPr>
            <a:xfrm>
              <a:off x="630360" y="304812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Decreased training require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55600" y="312408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255600" y="2360520"/>
            <a:ext cx="8574120" cy="398880"/>
            <a:chOff x="255600" y="2360520"/>
            <a:chExt cx="8574120" cy="398880"/>
          </a:xfrm>
        </p:grpSpPr>
        <p:sp>
          <p:nvSpPr>
            <p:cNvPr id="96" name=""/>
            <p:cNvSpPr/>
            <p:nvPr/>
          </p:nvSpPr>
          <p:spPr>
            <a:xfrm>
              <a:off x="630360" y="236052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Faster procedures due to integrated cross system 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255600" y="243684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"/>
          <p:cNvGrpSpPr/>
          <p:nvPr/>
        </p:nvGrpSpPr>
        <p:grpSpPr>
          <a:xfrm>
            <a:off x="255600" y="1766880"/>
            <a:ext cx="8574120" cy="398880"/>
            <a:chOff x="255600" y="1766880"/>
            <a:chExt cx="8574120" cy="398880"/>
          </a:xfrm>
        </p:grpSpPr>
        <p:sp>
          <p:nvSpPr>
            <p:cNvPr id="99" name=""/>
            <p:cNvSpPr/>
            <p:nvPr/>
          </p:nvSpPr>
          <p:spPr>
            <a:xfrm>
              <a:off x="630360" y="176688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ncreased productivity in a personalized working environem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255600" y="184284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255600" y="93024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ntitative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55600" y="4498920"/>
            <a:ext cx="8574120" cy="1618560"/>
            <a:chOff x="255600" y="4498920"/>
            <a:chExt cx="8574120" cy="1618560"/>
          </a:xfrm>
        </p:grpSpPr>
        <p:sp>
          <p:nvSpPr>
            <p:cNvPr id="103" name=""/>
            <p:cNvSpPr/>
            <p:nvPr/>
          </p:nvSpPr>
          <p:spPr>
            <a:xfrm>
              <a:off x="630360" y="4498920"/>
              <a:ext cx="81993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Lower IT cost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Less disk space requirement by avoiding redundant 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ntegrated search function (no 3rd-party product requir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implified user management using single sign-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Thin-Clien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advant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255600" y="457524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255600" y="3657600"/>
            <a:ext cx="8574120" cy="703800"/>
            <a:chOff x="255600" y="3657600"/>
            <a:chExt cx="8574120" cy="703800"/>
          </a:xfrm>
        </p:grpSpPr>
        <p:sp>
          <p:nvSpPr>
            <p:cNvPr id="106" name=""/>
            <p:cNvSpPr/>
            <p:nvPr/>
          </p:nvSpPr>
          <p:spPr>
            <a:xfrm>
              <a:off x="630360" y="3657600"/>
              <a:ext cx="8199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ompany-wide availability of documents using search and class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5"/>
            <a:stretch/>
          </p:blipFill>
          <p:spPr>
            <a:xfrm>
              <a:off x="255600" y="373392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/>
  <dc:language>en-US</dc:language>
  <cp:lastModifiedBy>d034747</cp:lastModifiedBy>
  <cp:lastPrinted>2000-05-10T17:23:18Z</cp:lastPrinted>
  <dcterms:modified xsi:type="dcterms:W3CDTF">2003-11-27T10:25:45Z</dcterms:modified>
  <cp:revision>460</cp:revision>
  <dc:subject/>
  <dc:title>EP Sample Business Drivers  Presentation</dc:title>
</cp:coreProperties>
</file>