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38160" rIns="38160" tIns="17640" bIns="1764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7EF3D-E151-44ED-9677-DDA5BA4CF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3240" y="714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41040" y="4357440"/>
            <a:ext cx="5032440" cy="414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Resume important aspects of previous portal projects (e.g. Employee Por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Document current state of knowledge regarding identified us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Broaden brandville guidelines in portal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Use existing knowledge to cut down on time required for requirements gathering /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8D71B75D-E6BE-40C4-B297-78DC3992CD0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20.xml"/><Relationship Id="rId5" Type="http://schemas.openxmlformats.org/officeDocument/2006/relationships/slide" Target="slide13.xml"/><Relationship Id="rId6" Type="http://schemas.openxmlformats.org/officeDocument/2006/relationships/slide" Target="slide31.xm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40.xml"/><Relationship Id="rId5" Type="http://schemas.openxmlformats.org/officeDocument/2006/relationships/slide" Target="slide38.xml"/><Relationship Id="rId6" Type="http://schemas.openxmlformats.org/officeDocument/2006/relationships/slide" Target="slide36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1971720"/>
            <a:ext cx="6750000" cy="487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yle Guide for AIM Por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76160" y="3266640"/>
            <a:ext cx="6064200" cy="226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Autofit/>
          </a:bodyPr>
          <a:p>
            <a:pPr indent="0" algn="ctr">
              <a:lnSpc>
                <a:spcPts val="4499"/>
              </a:lnSpc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Portal Servi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ase 0.9, May 12th, 2003  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.4 Zones - Navigation Zon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89080" y="1467000"/>
            <a:ext cx="4049640" cy="35337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upper Navigation has a defined size of 90 (height) x 634 (width) pixels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1" action="ppaction://hlinksldjump"/>
              </a:rPr>
              <a:t>The Primary Navig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spcBef>
                <a:spcPts val="162"/>
              </a:spcBef>
              <a:buNone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left Navigation has a defined size of 320 (height) x 144 (width).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his left Navigation Zone can be minimized to 320 (height) x 18 (width) pixels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2" action="ppaction://hlinksldjump"/>
              </a:rPr>
              <a:t>The 2nd and 3rd level naviga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3" action="ppaction://hlinksldjump"/>
              </a:rPr>
              <a:t>Collapse Navig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spcBef>
                <a:spcPts val="162"/>
              </a:spcBef>
              <a:buNone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708200" y="1387440"/>
            <a:ext cx="29862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.5 Zones - Content Zon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27240" y="1466640"/>
            <a:ext cx="4049640" cy="31658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Content Zone has a defined size of 320 (height) x 634 (width) pixels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he Content Zone has a maximized size of 320 (height) x 760 (width) pixels if the the left Navigation Zone is minimized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1" action="ppaction://hlinksldjump"/>
              </a:rPr>
              <a:t>Footer including </a:t>
            </a: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2" action="ppaction://hlinksldjump"/>
              </a:rPr>
              <a:t>Security</a:t>
            </a:r>
            <a:r>
              <a:rPr b="0" lang="en-US" sz="1300" spc="-1" strike="noStrike" u="sng" baseline="30000">
                <a:solidFill>
                  <a:srgbClr val="6b6b6b"/>
                </a:solidFill>
                <a:uFillTx/>
                <a:latin typeface="Arial"/>
                <a:hlinkClick r:id="rId3" action="ppaction://hlinksldjump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4" action="ppaction://hlinksldjump"/>
              </a:rPr>
              <a:t>iView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may contai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5" action="ppaction://hlinksldjump"/>
              </a:rPr>
              <a:t>Bread Crumb Navig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Eco</a:t>
            </a: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6" action="ppaction://hlinksldjump"/>
              </a:rPr>
              <a:t> Country / Group / Corporate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708200" y="1389240"/>
            <a:ext cx="2987640" cy="23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3. Portal Design Elements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67000"/>
            <a:ext cx="7772400" cy="45162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69120" anchor="t">
            <a:normAutofit/>
          </a:bodyPr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 u="sng">
                <a:solidFill>
                  <a:srgbClr val="6b6b6b"/>
                </a:solidFill>
                <a:uFillTx/>
                <a:latin typeface="Arial"/>
                <a:ea typeface="Times New Roman"/>
                <a:hlinkClick r:id="rId1" action="ppaction://hlinksldjump"/>
              </a:rPr>
              <a:t>3.1	Bread Crumb Navig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2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o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4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Vie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 Sel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n / Log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7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-purpose Sear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vigation (Primary and Secondary Naviga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l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 Country/ Unit/ Topic Sel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11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er Identifi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25000" y="1294920"/>
            <a:ext cx="7239240" cy="4419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77840" indent="0">
              <a:spcBef>
                <a:spcPts val="1125"/>
              </a:spcBef>
              <a:buNone/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Rul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read Crumb Navigation lists the pages, visited by the user in a chronological or hierarchical order. By clicking on an element the user navigates back to the corresponding portal pag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read Crumb Navig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 defined distance of 18 pixels to the upper marg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18 pixels to the side margi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featured in system font Arial Regular, size 11px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Arial character “&gt;” is used as a separat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ength of the path is based on the content width of 432 pixels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ximizing content width doesn’t affect its posi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hs that are too long are interrupted (see example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1 Elements - Bread Crumb Navigation (1 of 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18312" b="17808"/>
          <a:stretch/>
        </p:blipFill>
        <p:spPr>
          <a:xfrm>
            <a:off x="1708200" y="1773360"/>
            <a:ext cx="6224400" cy="4697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36560" y="12409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1 Elements - Bread Crumb Navigation (2 of 2)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68720" y="4017960"/>
            <a:ext cx="4381560" cy="220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571880" y="4132440"/>
            <a:ext cx="1351080" cy="1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16760" y="3876840"/>
            <a:ext cx="1227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d Cru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93920" y="2730600"/>
            <a:ext cx="1152720" cy="2998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16280" y="1879560"/>
            <a:ext cx="901440" cy="12384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93960" y="2430360"/>
            <a:ext cx="10270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74240" y="1420920"/>
            <a:ext cx="7239240" cy="4419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7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Rul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ooter is positioned in the Content Zone near the bottom margi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has a defined distance of 18 pixels to the side margi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ooter is featured in system font Arial Regular, size 10px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separated from the content by a 1px solid lin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co Copyright with the year of issue is valid for Internet and Intrane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Internet the content of the Footer must be in accordance with the respective legal regulation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ooter contains links to further information (Copyright, Privacy Policy, Legal, Corporate Info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Ru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vidual agreements of the organizational units are possibl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2 Elements - Footer (1 of 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18350" r="17994" b="0"/>
          <a:stretch/>
        </p:blipFill>
        <p:spPr>
          <a:xfrm>
            <a:off x="1708200" y="1801800"/>
            <a:ext cx="6251400" cy="4668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3647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2 Elements - Footer (2 of 2)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16760" y="5676840"/>
            <a:ext cx="145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o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577280" y="5943600"/>
            <a:ext cx="134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60800" y="5732640"/>
            <a:ext cx="4389480" cy="372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3240" y="1803240"/>
            <a:ext cx="1152720" cy="300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06600" y="5937120"/>
            <a:ext cx="4017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0021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92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nk to Help guides the user to a page where he’s provided with topic and task oriented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instructions on how to use the functionalities and content of the Porta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he link is positioned in the "Local" zone on the extreme right. It is generally used in combination with the link to Sitemap and Contact and its position is fixe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he combination Sitemap, Contact, Help has a defined distance of 12 pixels to the bottom margin and 9 pixels to the left to the vertical line which is defined by the standard gri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nks are designed in the system font Arial Regular in the font size 11px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3 Elements - Help (1 of 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18312" t="0" r="0" b="17808"/>
          <a:stretch/>
        </p:blipFill>
        <p:spPr>
          <a:xfrm>
            <a:off x="1708200" y="1773360"/>
            <a:ext cx="6224400" cy="4697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23948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3 Elements - Help (2 of 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30880" y="3218040"/>
            <a:ext cx="419400" cy="220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571880" y="3332160"/>
            <a:ext cx="1351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16760" y="3076560"/>
            <a:ext cx="1227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66960" y="2730600"/>
            <a:ext cx="1152360" cy="2998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146664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25000"/>
          </a:bodyPr>
          <a:p>
            <a:pPr marL="44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Rul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iews are positioned in the Content Zon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 and position of the iViews are adapted on the Fibonacci Gri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View consists of a header bar and a content area.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header bar contains the iView title (left) and small icons (right) for accessing standard functionalit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View width and height depends on the chosen content lay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iews shouldn’t utilize horizontal scrollbar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iew content has to be designed with the constrained iView height &amp; width in mind. If not iViews automatically produce scroll bars when they have a constrained size (height and width) and the content is larger than that constrained iView siz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header bar is 18 px in heigh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acing between the iView border and the actual content is 9 pixel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4 Elements - iViews (1 of 4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9564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style guide contai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design, interaction elements for portal sites and its applica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services and iViews). I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s several require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arise from different boundary conditions like the SAP-platform, the Eco online design guidelines, context of use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ly, practic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e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s gathered in previous &amp; current portal projects and careful attention to considerations regard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bility best practi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ere taken into account to assure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res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document is an additional chapter to the existing E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line Design Guideli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brandville.eco.com. Therefore the document centers on definitions that differ or are absent in the Eco Online Design Guideline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al specifications are highlighted i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old and italic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nderline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s link directly to slides with more detailed information on the respective topi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08200" y="1781280"/>
            <a:ext cx="6251400" cy="4689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4 Elements - iViews (2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9204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 (800 x 600 pix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27520" y="3627360"/>
            <a:ext cx="4795560" cy="1701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954920" y="4162320"/>
            <a:ext cx="92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742160" y="442260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7800" y="2556000"/>
            <a:ext cx="1152720" cy="2998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90720" y="1828800"/>
            <a:ext cx="652320" cy="15084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08200" y="1784520"/>
            <a:ext cx="6251400" cy="46893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4 Elements - iViews (3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9024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2 (800 x 600 pix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732440" y="4622760"/>
            <a:ext cx="84780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926480" y="4362480"/>
            <a:ext cx="92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27520" y="3627360"/>
            <a:ext cx="4795560" cy="2616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19240" y="2530440"/>
            <a:ext cx="1152720" cy="300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90720" y="1828800"/>
            <a:ext cx="652320" cy="15084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08200" y="1763640"/>
            <a:ext cx="6251400" cy="4707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4 Elements - iViews (4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647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3 (1024 x 768 pix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770600" y="4622760"/>
            <a:ext cx="80964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26480" y="4362480"/>
            <a:ext cx="92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52840" y="3206880"/>
            <a:ext cx="5122800" cy="292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90720" y="1778040"/>
            <a:ext cx="652320" cy="15084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19360" y="2328840"/>
            <a:ext cx="1152720" cy="300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710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46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anguage Selection is positioned in the Local Zon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has defined distances of 12 pixels to the bottom margin and 9 pixels to the right to the next vertical line which is defined by the standard gri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anguage Selection consists of links which map the target language (e.g. francais, english, deutsch, italiano 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arget languages are always displayed as one wor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anguage that has been selected is not part of the language selection on the following pag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the Language Selection shows more than 3 languages, the link “choose language” is used which opens a new window with the assortment of the target languag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nks are designed in the system font Arial Regular in the font size 11px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5 Elements - Language Selection (1 of 2)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36740" t="0" r="0" b="36966"/>
          <a:stretch/>
        </p:blipFill>
        <p:spPr>
          <a:xfrm>
            <a:off x="1708200" y="1819440"/>
            <a:ext cx="6229440" cy="46558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5 Elements - Language Selection (2 of 2)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26648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660640" y="3835440"/>
            <a:ext cx="315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16760" y="3419640"/>
            <a:ext cx="122724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nguage Sele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06920" y="3713040"/>
            <a:ext cx="1935000" cy="220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217160"/>
            <a:ext cx="7772400" cy="47052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46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nk to Login / Logout is located near the bottom margin of the upper Site Identifier Zo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has defined distances of 90 pixels to the side margin and 9 pixels to the bottom margi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n / Logout is featured in system font Arial Regular, size 11px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marked with an arrow at the beginning of the li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using the Login link a popup window with the Login area ope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using the Logout link the user check out his personal portal and is redirected to the public portal page of his organizational uni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Home page of public portal pages the link Login is absent. Instead, a Login Area which allows a direct access is positioned in the left navigation zo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6 Elements - Login / Logout (1 of 2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924280" y="3546360"/>
            <a:ext cx="1189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gin Area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Home Pag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6 Elements - Login/Logout (2 of 2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81492" b="0"/>
          <a:stretch/>
        </p:blipFill>
        <p:spPr>
          <a:xfrm>
            <a:off x="1708200" y="1773360"/>
            <a:ext cx="1158840" cy="4697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rcRect l="0" t="0" r="81558" b="0"/>
          <a:stretch/>
        </p:blipFill>
        <p:spPr>
          <a:xfrm>
            <a:off x="6784920" y="1801800"/>
            <a:ext cx="1147680" cy="46688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rcRect l="0" t="0" r="81487" b="0"/>
          <a:stretch/>
        </p:blipFill>
        <p:spPr>
          <a:xfrm>
            <a:off x="4249800" y="1801800"/>
            <a:ext cx="1152360" cy="4668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H="1">
            <a:off x="7959240" y="3517920"/>
            <a:ext cx="62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26480" y="3257640"/>
            <a:ext cx="92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g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59560" y="3414600"/>
            <a:ext cx="473040" cy="19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429160" y="3513240"/>
            <a:ext cx="62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96040" y="3252960"/>
            <a:ext cx="92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g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29120" y="3409920"/>
            <a:ext cx="473040" cy="195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957040" y="3807000"/>
            <a:ext cx="62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08200" y="3703680"/>
            <a:ext cx="1222200" cy="2168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90720" y="1866960"/>
            <a:ext cx="652320" cy="88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48160" y="1893960"/>
            <a:ext cx="652320" cy="88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05600" y="1895400"/>
            <a:ext cx="652680" cy="88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90640" y="4446720"/>
            <a:ext cx="852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1467000"/>
            <a:ext cx="7772400" cy="44308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ulti-purpose Search is positioned in the Global Zone on the righ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ulti-purpose Search consists of a drop down list, a search field and a go Button on the right. On the left side it is labeled with “search”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 is featured in system font Arial Bold, size 11px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al Ru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personal portals the most frequent used search engine by the individual user is pres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7 Elements - Multi-purpose Search (1 of 2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467000"/>
            <a:ext cx="7772400" cy="48474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Navig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Rul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ry Navigation is located in the upper bar of the Navigation Zone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has defined distances of 18 pixels to the side and top margins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ry Navigation is featured in system font Arial Bold, size 11px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ndividual navigation points are separated by a 1 px line (system character in Arial, centered)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ite Home Link is the first point in Primary Navig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ed Primary Navigation items are marked with a change of font colo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required Primary Navigation is spread over two lin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condary Navigation becomes visible in a drop-down menu by mouse-over (with a delay time of 1/2 second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choosing one item of Primary Navigation, the Secondary Navigation becomes visible at left hand side (also when hit befor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8 Elements - Navigation (1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7203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ary Navig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Rul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ary Navigation is located in the left bar of the Navigation Zone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has defined distances of 4 pixels to the side (to the arrow) and 36 pixels to the top margins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econdary Navigation has a defined size of 320 (height) x 144 (width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featured in system font Arial, size 11px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t can be collapsed to the left. The minimized Secondary Navigation bar is then  320 (height) x 18 (width) pixel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collapsed Secondary Navigation is maximized automatically when an element in the Primary Navigation or the mouse-over Secondary Navigation is click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element is marked with an arrow at the beginning of the lin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Secondary Navigation becomes also visible in a drop-down menu by mouse-over the Primary Navigation (with a delay time of 1/2 second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8 Elements - Navigation (2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5943240"/>
            <a:ext cx="7086600" cy="579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PS Style Guide brings the decisive information together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900"/>
            </a:b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>
              <a:lnSpc>
                <a:spcPts val="4499"/>
              </a:lnSpc>
              <a:spcBef>
                <a:spcPts val="1874"/>
              </a:spcBef>
              <a:buClr>
                <a:srgbClr val="ffffff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71720" y="2438280"/>
            <a:ext cx="289584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48240" y="2438280"/>
            <a:ext cx="289548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0800000">
            <a:off x="3862080" y="1065960"/>
            <a:ext cx="2590920" cy="1295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62440" y="4114800"/>
            <a:ext cx="2590920" cy="1295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6840" y="1143000"/>
            <a:ext cx="15948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g. Employee 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65360" y="4905360"/>
            <a:ext cx="16801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743200"/>
            <a:ext cx="152388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 Onlin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8400" y="3048120"/>
            <a:ext cx="1128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SAP 6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43320" y="2819520"/>
            <a:ext cx="1981440" cy="6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P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tyle Gu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932600" y="5038560"/>
            <a:ext cx="12114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nd &amp; 3rd Level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this example of “Primary Navigation 1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45560" y="3689280"/>
            <a:ext cx="119844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nd Level;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this example of “Primary Navigation 2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08200" y="1773360"/>
            <a:ext cx="6251400" cy="46893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31076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676520" y="914040"/>
            <a:ext cx="7238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8 Elements - Navigation (3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17560" y="3605040"/>
            <a:ext cx="1152720" cy="265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270400" y="4083120"/>
            <a:ext cx="3608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505560" y="3398760"/>
            <a:ext cx="241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953480" y="3029040"/>
            <a:ext cx="8841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863440" y="5437080"/>
            <a:ext cx="603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70280" y="3187800"/>
            <a:ext cx="3625920" cy="977760"/>
          </a:xfrm>
          <a:custGeom>
            <a:avLst/>
            <a:gdLst/>
            <a:ahLst/>
            <a:rect l="l" t="t" r="r" b="b"/>
            <a:pathLst>
              <a:path w="2284" h="616">
                <a:moveTo>
                  <a:pt x="4" y="260"/>
                </a:moveTo>
                <a:lnTo>
                  <a:pt x="876" y="256"/>
                </a:lnTo>
                <a:lnTo>
                  <a:pt x="876" y="252"/>
                </a:lnTo>
                <a:lnTo>
                  <a:pt x="876" y="616"/>
                </a:lnTo>
                <a:lnTo>
                  <a:pt x="1500" y="608"/>
                </a:lnTo>
                <a:lnTo>
                  <a:pt x="1504" y="260"/>
                </a:lnTo>
                <a:lnTo>
                  <a:pt x="2284" y="264"/>
                </a:lnTo>
                <a:lnTo>
                  <a:pt x="2284" y="0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857680" y="3683160"/>
            <a:ext cx="1466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20000" y="3295800"/>
            <a:ext cx="8841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llap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73120" y="3683160"/>
            <a:ext cx="38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44800" y="2529000"/>
            <a:ext cx="1152360" cy="2998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90720" y="1816200"/>
            <a:ext cx="701640" cy="1508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708200" y="1773360"/>
            <a:ext cx="6251400" cy="4689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953480" y="3029040"/>
            <a:ext cx="8841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irm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914040"/>
            <a:ext cx="7238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8 Elements - Navigation (4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17560" y="3567240"/>
            <a:ext cx="200160" cy="2651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11360" y="1364760"/>
            <a:ext cx="7772400" cy="34452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6912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932600" y="5038560"/>
            <a:ext cx="12114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llapsed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nd &amp; 3rd Level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this example of “Primary Navigation 1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505560" y="3398760"/>
            <a:ext cx="241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939680" y="5437080"/>
            <a:ext cx="696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924200" y="3683160"/>
            <a:ext cx="701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920000" y="3295800"/>
            <a:ext cx="8841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ximiz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70280" y="3187800"/>
            <a:ext cx="3625920" cy="419040"/>
          </a:xfrm>
          <a:custGeom>
            <a:avLst/>
            <a:gdLst/>
            <a:ahLst/>
            <a:rect l="l" t="t" r="r" b="b"/>
            <a:pathLst>
              <a:path w="2284" h="264">
                <a:moveTo>
                  <a:pt x="4" y="260"/>
                </a:moveTo>
                <a:lnTo>
                  <a:pt x="2284" y="264"/>
                </a:lnTo>
                <a:lnTo>
                  <a:pt x="2284" y="0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21040" y="2503440"/>
            <a:ext cx="1152360" cy="300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66960" y="1854360"/>
            <a:ext cx="776160" cy="997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1467000"/>
            <a:ext cx="7772400" cy="38707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nk Personalize is positioned near the bottom margin of the upper Site Identifier Zone (only after login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has defined distances of 4 pixels to the side margin and 9 pixels to the bottom margi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nk Personalize is featured in system font Arial Regular, size 11px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marked with an arrow at the beginning of the li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using the Personalize link a drop-down menu opens wherein the user get the option to adapt his / her profile, the portal framework or the site to his requirem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9 Elements - Personalize (1 of 2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rcRect l="0" t="0" r="18312" b="18060"/>
          <a:stretch/>
        </p:blipFill>
        <p:spPr>
          <a:xfrm>
            <a:off x="1708200" y="1773360"/>
            <a:ext cx="6224400" cy="46828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9 Elements - Personalize (2 of 2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3140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43120" y="3736800"/>
            <a:ext cx="819000" cy="263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593800" y="3733920"/>
            <a:ext cx="632952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953480" y="3363840"/>
            <a:ext cx="119052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sonaliz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95720" y="2754360"/>
            <a:ext cx="1152360" cy="2998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16280" y="1879560"/>
            <a:ext cx="852480" cy="1238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114800" y="3703680"/>
            <a:ext cx="1828800" cy="106668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149868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ocus of Portal Style Guid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2408400"/>
            <a:ext cx="15368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Usability Best Pract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86600" y="4998960"/>
            <a:ext cx="13716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Interaction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4237200"/>
            <a:ext cx="9144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te Lay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5257800"/>
            <a:ext cx="144756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Eco Online Design </a:t>
            </a:r>
            <a:br>
              <a:rPr sz="1600"/>
            </a:b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Guide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4052880"/>
            <a:ext cx="17524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AP Restri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2941560"/>
            <a:ext cx="121932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Visual Design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8" idx="3"/>
            <a:endCxn id="66" idx="1"/>
          </p:cNvCxnSpPr>
          <p:nvPr/>
        </p:nvCxnSpPr>
        <p:spPr>
          <a:xfrm>
            <a:off x="3365640" y="2736360"/>
            <a:ext cx="1018080" cy="1104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71" idx="3"/>
            <a:endCxn id="66" idx="3"/>
          </p:cNvCxnSpPr>
          <p:nvPr/>
        </p:nvCxnSpPr>
        <p:spPr>
          <a:xfrm flipV="1">
            <a:off x="3123720" y="4633200"/>
            <a:ext cx="1259640" cy="1105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77" idx="1"/>
            <a:endCxn id="66" idx="6"/>
          </p:cNvCxnSpPr>
          <p:nvPr/>
        </p:nvCxnSpPr>
        <p:spPr>
          <a:xfrm flipH="1" flipV="1">
            <a:off x="5961960" y="4236840"/>
            <a:ext cx="7866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78" name=""/>
          <p:cNvCxnSpPr>
            <a:stCxn id="72" idx="3"/>
            <a:endCxn id="66" idx="2"/>
          </p:cNvCxnSpPr>
          <p:nvPr/>
        </p:nvCxnSpPr>
        <p:spPr>
          <a:xfrm>
            <a:off x="3429000" y="4229280"/>
            <a:ext cx="667440" cy="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4343400" y="3780000"/>
            <a:ext cx="1371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yle Gu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9320" y="2057400"/>
            <a:ext cx="651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86240" y="2057400"/>
            <a:ext cx="842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67640" y="2800440"/>
            <a:ext cx="1552320" cy="2856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Visual Design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te Lay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Interaction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9144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.1 Executive Summary (1/2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.1 Executive Summary (2/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76520" y="1447920"/>
            <a:ext cx="7162560" cy="33220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rea of validity of the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document will be used for the visual and interaction design of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l 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.g.: Enter.eco.com)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cont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.g.: Login, Search, New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rive from an European / American use-context and a PC-based desktop ver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iven information may be a starting point for both different user and device contex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2. Screens Zones of Portal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69120" anchor="t">
            <a:normAutofit/>
          </a:bodyPr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6b6b6b"/>
                </a:solidFill>
                <a:uFillTx/>
                <a:latin typeface="Arial"/>
                <a:ea typeface="Times New Roman"/>
                <a:hlinkClick r:id="rId1" action="ppaction://hlinksldjump"/>
              </a:rPr>
              <a:t>2.1	Global Z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 u="sng">
                <a:solidFill>
                  <a:srgbClr val="6b6b6b"/>
                </a:solidFill>
                <a:uFillTx/>
                <a:latin typeface="Arial"/>
                <a:ea typeface="Times New Roman"/>
                <a:hlinkClick r:id="rId2" action="ppaction://hlinksldjump"/>
              </a:rPr>
              <a:t>2.2	Local Z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 u="sng">
                <a:solidFill>
                  <a:srgbClr val="6b6b6b"/>
                </a:solidFill>
                <a:uFillTx/>
                <a:latin typeface="Arial"/>
                <a:hlinkClick r:id="rId3" action="ppaction://hlinksldjump"/>
              </a:rPr>
              <a:t>2.3 	Portal Identifier Z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 u="sng">
                <a:solidFill>
                  <a:srgbClr val="6b6b6b"/>
                </a:solidFill>
                <a:uFillTx/>
                <a:latin typeface="Arial"/>
                <a:hlinkClick r:id="rId4" action="ppaction://hlinksldjump"/>
              </a:rPr>
              <a:t>2.4	Navigation Z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 u="sng">
                <a:solidFill>
                  <a:srgbClr val="6b6b6b"/>
                </a:solidFill>
                <a:uFillTx/>
                <a:latin typeface="Arial"/>
                <a:ea typeface="Times New Roman"/>
                <a:hlinkClick r:id="rId5" action="ppaction://hlinksldjump"/>
              </a:rPr>
              <a:t>2.5	Content Z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.1 Zones - Global Zon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890960" y="1466640"/>
            <a:ext cx="4050000" cy="13795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Global Zone has a defined size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4 (height) x 634 (width) pixels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co Log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1" action="ppaction://hlinksldjump"/>
              </a:rPr>
              <a:t>Multi-purpose sear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08200" y="1387440"/>
            <a:ext cx="29862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.2 Zones - Local Zon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79880" y="1466640"/>
            <a:ext cx="4050000" cy="23824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Local Zone has a defined size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6 (height) x 634 (width) pixels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Sitema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act</a:t>
            </a:r>
            <a:r>
              <a:rPr b="0" lang="en-US" sz="13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1" action="ppaction://hlinksldjump"/>
              </a:rPr>
              <a:t>Hel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may contai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2" action="ppaction://hlinksldjump"/>
              </a:rPr>
              <a:t>Language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Country Ident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708200" y="1387440"/>
            <a:ext cx="29862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.3 Zones - Portal Identifier Zon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27240" y="1467000"/>
            <a:ext cx="4049640" cy="34048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Site Identifier Zone has a defined size of 144 (height) x 144 (width) pixel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ey Vis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 on public portals (before login)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te Identifi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1" action="ppaction://hlinksldjump"/>
              </a:rPr>
              <a:t>Login </a:t>
            </a: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2" action="ppaction://hlinksldjump"/>
              </a:rPr>
              <a:t>link</a:t>
            </a: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3" action="ppaction://hlinksldjump"/>
              </a:rPr>
              <a:t> (except on Hom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 on personal portals (after login)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4" action="ppaction://hlinksldjump"/>
              </a:rPr>
              <a:t>User Ident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5" action="ppaction://hlinksldjump"/>
              </a:rPr>
              <a:t>Personaliz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6" action="ppaction://hlinksldjump"/>
              </a:rPr>
              <a:t>Logo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1708200" y="1387440"/>
            <a:ext cx="29862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Style Guide</dc:description>
  <dc:language>en-US</dc:language>
  <cp:lastModifiedBy>d031429</cp:lastModifiedBy>
  <cp:lastPrinted>2000-05-10T17:23:18Z</cp:lastPrinted>
  <dcterms:modified xsi:type="dcterms:W3CDTF">2003-11-08T20:13:05Z</dcterms:modified>
  <cp:revision>457</cp:revision>
  <dc:subject/>
  <dc:title>EP Sample Style Guide</dc:title>
</cp:coreProperties>
</file>