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6232D5C8-E48C-4943-96C1-D643E9EF65C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200" y="17784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953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nsition from Discovery and Eval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147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equir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coping &amp; 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4160" y="90000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nterpri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trategy Framewor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160" y="1405080"/>
            <a:ext cx="8878680" cy="5287320"/>
            <a:chOff x="38160" y="1405080"/>
            <a:chExt cx="8878680" cy="5287320"/>
          </a:xfrm>
        </p:grpSpPr>
        <p:grpSp>
          <p:nvGrpSpPr>
            <p:cNvPr id="50" name=""/>
            <p:cNvGrpSpPr/>
            <p:nvPr/>
          </p:nvGrpSpPr>
          <p:grpSpPr>
            <a:xfrm>
              <a:off x="38160" y="1405080"/>
              <a:ext cx="2160360" cy="5287320"/>
              <a:chOff x="38160" y="1405080"/>
              <a:chExt cx="2160360" cy="5287320"/>
            </a:xfrm>
          </p:grpSpPr>
          <p:sp>
            <p:nvSpPr>
              <p:cNvPr id="51" name=""/>
              <p:cNvSpPr/>
              <p:nvPr/>
            </p:nvSpPr>
            <p:spPr>
              <a:xfrm>
                <a:off x="38160" y="1896840"/>
                <a:ext cx="2147760" cy="369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8160" y="2374920"/>
                <a:ext cx="2147760" cy="380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160" y="2851200"/>
                <a:ext cx="2147760" cy="407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160" y="3394080"/>
                <a:ext cx="2147760" cy="393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160" y="3895560"/>
                <a:ext cx="2147760" cy="433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160" y="4460760"/>
                <a:ext cx="2147760" cy="4219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160" y="5003640"/>
                <a:ext cx="2147760" cy="396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160" y="5502240"/>
                <a:ext cx="2147760" cy="3711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curity Expe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160" y="140508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0760" y="59688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760" y="6362640"/>
                <a:ext cx="2147760" cy="3297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301840" y="1490760"/>
              <a:ext cx="214632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5000" y="1500120"/>
              <a:ext cx="212076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8560" y="1487520"/>
              <a:ext cx="216828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87520" y="1536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7520" y="1943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10160" y="28828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0160" y="34545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87520" y="3962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0160" y="39751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2760" y="4508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7520" y="50799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2276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10160" y="63882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2760" y="15620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32440" y="15876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87520" y="24163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35360" y="19591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6280" y="24256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533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10160" y="55497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0160" y="60069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362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-76320" y="876240"/>
            <a:ext cx="2285640" cy="522000"/>
            <a:chOff x="-76320" y="876240"/>
            <a:chExt cx="2285640" cy="522000"/>
          </a:xfrm>
        </p:grpSpPr>
        <p:sp>
          <p:nvSpPr>
            <p:cNvPr id="86" name=""/>
            <p:cNvSpPr/>
            <p:nvPr/>
          </p:nvSpPr>
          <p:spPr>
            <a:xfrm>
              <a:off x="70920" y="9187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3400" y="8762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76320" y="11217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20" y="9187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ortal Governance Appro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ining and Documentation Strategy 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4160" y="91296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echnical Standards and Proced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160" y="1417680"/>
            <a:ext cx="8878680" cy="5288040"/>
            <a:chOff x="38160" y="1417680"/>
            <a:chExt cx="8878680" cy="5288040"/>
          </a:xfrm>
        </p:grpSpPr>
        <p:grpSp>
          <p:nvGrpSpPr>
            <p:cNvPr id="95" name=""/>
            <p:cNvGrpSpPr/>
            <p:nvPr/>
          </p:nvGrpSpPr>
          <p:grpSpPr>
            <a:xfrm>
              <a:off x="38160" y="1417680"/>
              <a:ext cx="2160360" cy="5288040"/>
              <a:chOff x="38160" y="1417680"/>
              <a:chExt cx="2160360" cy="5288040"/>
            </a:xfrm>
          </p:grpSpPr>
          <p:sp>
            <p:nvSpPr>
              <p:cNvPr id="96" name=""/>
              <p:cNvSpPr/>
              <p:nvPr/>
            </p:nvSpPr>
            <p:spPr>
              <a:xfrm>
                <a:off x="38160" y="1909800"/>
                <a:ext cx="2147760" cy="370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160" y="2387880"/>
                <a:ext cx="2147760" cy="380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160" y="286416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160" y="3407040"/>
                <a:ext cx="2147760" cy="393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160" y="3908520"/>
                <a:ext cx="2147760" cy="4334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160" y="4473720"/>
                <a:ext cx="2147760" cy="4222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160" y="5016600"/>
                <a:ext cx="2147760" cy="397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160" y="5515200"/>
                <a:ext cx="2147760" cy="371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Training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160" y="1417680"/>
                <a:ext cx="2147760" cy="4082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760" y="5981760"/>
                <a:ext cx="2147760" cy="330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760" y="63756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301840" y="1503720"/>
              <a:ext cx="214632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45000" y="1513080"/>
              <a:ext cx="2120760" cy="5167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8560" y="1500480"/>
              <a:ext cx="216828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10160" y="28954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0160" y="34671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10160" y="3987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45212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/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8752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22760" y="5105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59943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10160" y="64008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/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2440" y="16002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5360" y="1971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16280" y="2438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6375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24130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27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610160" y="5562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8760" y="176040"/>
            <a:ext cx="792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Implementation Standards and Procedu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8160" y="1417680"/>
            <a:ext cx="2160360" cy="5288040"/>
            <a:chOff x="38160" y="1417680"/>
            <a:chExt cx="2160360" cy="5288040"/>
          </a:xfrm>
        </p:grpSpPr>
        <p:sp>
          <p:nvSpPr>
            <p:cNvPr id="137" name=""/>
            <p:cNvSpPr/>
            <p:nvPr/>
          </p:nvSpPr>
          <p:spPr>
            <a:xfrm>
              <a:off x="38160" y="1909800"/>
              <a:ext cx="2147760" cy="370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Content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160" y="2387880"/>
              <a:ext cx="2147760" cy="380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Technology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160" y="2864160"/>
              <a:ext cx="2147760" cy="407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Develop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160" y="3407040"/>
              <a:ext cx="2147760" cy="393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UID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60" y="3908520"/>
              <a:ext cx="2147760" cy="4334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nowledge 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60" y="4473720"/>
              <a:ext cx="2147760" cy="4222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hange Manageme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160" y="5016600"/>
              <a:ext cx="2147760" cy="397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Line-of- Business Exper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60" y="5515200"/>
              <a:ext cx="2147760" cy="3715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Security Expe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60" y="1417680"/>
              <a:ext cx="2147760" cy="4082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760" y="5981760"/>
              <a:ext cx="2147760" cy="330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Technical Infrastructure Tea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760" y="6375600"/>
              <a:ext cx="2147760" cy="3301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ey-Us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301840" y="1503360"/>
            <a:ext cx="214632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45000" y="1512720"/>
            <a:ext cx="212076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752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87520" y="5562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00480" y="60199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56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730920" y="5386320"/>
            <a:ext cx="2362320" cy="685800"/>
            <a:chOff x="6730920" y="5386320"/>
            <a:chExt cx="2362320" cy="685800"/>
          </a:xfrm>
        </p:grpSpPr>
        <p:sp>
          <p:nvSpPr>
            <p:cNvPr id="161" name=""/>
            <p:cNvSpPr/>
            <p:nvPr/>
          </p:nvSpPr>
          <p:spPr>
            <a:xfrm>
              <a:off x="6730920" y="5386320"/>
              <a:ext cx="236232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40720" y="5448240"/>
              <a:ext cx="214236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Responsi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o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ccounta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ecid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onsult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ask befor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Inform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be informe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0200" y="15228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15880" y="5105520"/>
            <a:ext cx="9000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11-21T12:49:59Z</dcterms:modified>
  <cp:revision>456</cp:revision>
  <dc:subject/>
  <dc:title>EP Sample Project Roles and Responsibilities</dc:title>
</cp:coreProperties>
</file>