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38160" rIns="38160" tIns="17640" bIns="1764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38051-502C-4DBE-B3EF-8A546DA2A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85960" y="425520"/>
            <a:ext cx="4424400" cy="3317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69440" y="3884400"/>
            <a:ext cx="5877000" cy="43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ntent Management Prozesse, speziell die Content Lifecycle Prozesse sind entweder Bestandteile der täglich ablaufenden Geschäftsdprozesse oder werden durch diese ausgelöst. D.h. Content Management ist erfolgskritisch für das tägliche Geschä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r Content Manager unterstützt diese Prozesse durch Administrationsprozes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584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92714-0060-4936-A761-865C13587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432080" y="922320"/>
            <a:ext cx="3992400" cy="2994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1160" y="4370400"/>
            <a:ext cx="502776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16120" y="506520"/>
            <a:ext cx="3557520" cy="266832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99" name=""/>
          <p:cNvGraphicFramePr/>
          <p:nvPr/>
        </p:nvGraphicFramePr>
        <p:xfrm>
          <a:off x="785880" y="5154480"/>
          <a:ext cx="5322960" cy="15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154480"/>
                    <a:ext cx="532296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909C890D-671E-4B35-84DF-C6CAA05FA58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18880" y="3007800"/>
            <a:ext cx="491904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tent Structure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01360" y="73440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4520" y="660240"/>
            <a:ext cx="7523280" cy="673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relation of Content Type Classes with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porate Taxonom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44520" y="1447920"/>
            <a:ext cx="7701120" cy="5029200"/>
            <a:chOff x="1244520" y="1447920"/>
            <a:chExt cx="7701120" cy="5029200"/>
          </a:xfrm>
        </p:grpSpPr>
        <p:sp>
          <p:nvSpPr>
            <p:cNvPr id="142" name=""/>
            <p:cNvSpPr/>
            <p:nvPr/>
          </p:nvSpPr>
          <p:spPr>
            <a:xfrm>
              <a:off x="1244520" y="1447920"/>
              <a:ext cx="7701120" cy="5029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39760" y="2452680"/>
              <a:ext cx="6324840" cy="3606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244520" y="2730600"/>
            <a:ext cx="7899480" cy="3187440"/>
            <a:chOff x="1244520" y="2730600"/>
            <a:chExt cx="7899480" cy="3187440"/>
          </a:xfrm>
        </p:grpSpPr>
        <p:sp>
          <p:nvSpPr>
            <p:cNvPr id="145" name=""/>
            <p:cNvSpPr/>
            <p:nvPr/>
          </p:nvSpPr>
          <p:spPr>
            <a:xfrm>
              <a:off x="1244520" y="4273560"/>
              <a:ext cx="7899480" cy="851040"/>
            </a:xfrm>
            <a:custGeom>
              <a:avLst/>
              <a:gdLst>
                <a:gd name="textAreaLeft" fmla="*/ 0 w 7899480"/>
                <a:gd name="textAreaRight" fmla="*/ 7899840 w 789948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36" y="0"/>
                  </a:lnTo>
                  <a:lnTo>
                    <a:pt x="21600" y="10800"/>
                  </a:lnTo>
                  <a:lnTo>
                    <a:pt x="20536" y="21600"/>
                  </a:lnTo>
                  <a:lnTo>
                    <a:pt x="0" y="21600"/>
                  </a:lnTo>
                  <a:lnTo>
                    <a:pt x="1064" y="10800"/>
                  </a:lnTo>
                  <a:close/>
                </a:path>
              </a:pathLst>
            </a:cu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rocesses &amp; Roles             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76440" y="5194440"/>
              <a:ext cx="2251080" cy="7236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ools &amp;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perienc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34080" y="5194440"/>
              <a:ext cx="2112840" cy="7236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ffff"/>
                  </a:solidFill>
                  <a:latin typeface="Arial"/>
                </a:rPr>
                <a:t>Technologi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89240" y="2730600"/>
              <a:ext cx="2565720" cy="7239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mployee Topic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536840" y="2095560"/>
            <a:ext cx="7340400" cy="2025720"/>
            <a:chOff x="1536840" y="2095560"/>
            <a:chExt cx="7340400" cy="2025720"/>
          </a:xfrm>
        </p:grpSpPr>
        <p:sp>
          <p:nvSpPr>
            <p:cNvPr id="150" name=""/>
            <p:cNvSpPr/>
            <p:nvPr/>
          </p:nvSpPr>
          <p:spPr>
            <a:xfrm>
              <a:off x="2514600" y="2108160"/>
              <a:ext cx="1590840" cy="533520"/>
            </a:xfrm>
            <a:prstGeom prst="parallelogram">
              <a:avLst>
                <a:gd name="adj" fmla="val 1511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bout 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53360" y="3174840"/>
              <a:ext cx="1523880" cy="825840"/>
            </a:xfrm>
            <a:prstGeom prst="parallelogram">
              <a:avLst>
                <a:gd name="adj" fmla="val 935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yp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36840" y="2882880"/>
              <a:ext cx="1333440" cy="1238400"/>
            </a:xfrm>
            <a:prstGeom prst="parallelogram">
              <a:avLst>
                <a:gd name="adj" fmla="val 545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ntacts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&amp; 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05440" y="2095560"/>
              <a:ext cx="2320920" cy="533520"/>
            </a:xfrm>
            <a:prstGeom prst="parallelogram">
              <a:avLst>
                <a:gd name="adj" fmla="val 1963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News &amp; Eve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99280" y="1511280"/>
            <a:ext cx="2502000" cy="43020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kets &amp; Tre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244520" y="1608120"/>
            <a:ext cx="7662960" cy="4836960"/>
            <a:chOff x="1244520" y="1608120"/>
            <a:chExt cx="7662960" cy="4836960"/>
          </a:xfrm>
        </p:grpSpPr>
        <p:sp>
          <p:nvSpPr>
            <p:cNvPr id="156" name=""/>
            <p:cNvSpPr/>
            <p:nvPr/>
          </p:nvSpPr>
          <p:spPr>
            <a:xfrm>
              <a:off x="3409920" y="587376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Learning 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&amp; Train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10360" y="4311720"/>
              <a:ext cx="102852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Proces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66920" y="5854680"/>
              <a:ext cx="102888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Methods 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&amp; Too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81360" y="2813040"/>
              <a:ext cx="102852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Contac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44520" y="2425680"/>
              <a:ext cx="102888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Company/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Biz Partn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78600" y="260352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Business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Offe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18120" y="5765760"/>
              <a:ext cx="102852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Technolog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48720" y="3873600"/>
              <a:ext cx="102852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Products, 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Solutions, 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3200" y="3429000"/>
              <a:ext cx="102888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Communi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6920" y="188136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Markets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&amp; Trend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02200" y="1608120"/>
              <a:ext cx="102852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New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81480" y="161928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Even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4400" y="163044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18400" y="2641680"/>
              <a:ext cx="102852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Projec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63760" y="3784680"/>
            <a:ext cx="3467160" cy="19429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noAutofit/>
          </a:bodyPr>
          <a:p>
            <a:pPr lvl="2" marL="914400"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Dat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Info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Knowled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bas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27200" y="2921040"/>
            <a:ext cx="2349720" cy="1231920"/>
          </a:xfrm>
          <a:custGeom>
            <a:avLst/>
            <a:gdLst>
              <a:gd name="textAreaLeft" fmla="*/ 411120 w 2349720"/>
              <a:gd name="textAreaRight" fmla="*/ 1703520 w 2349720"/>
              <a:gd name="textAreaTop" fmla="*/ 164880 h 1231920"/>
              <a:gd name="textAreaBottom" fmla="*/ 106704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921040"/>
            <a:ext cx="2349360" cy="1231920"/>
          </a:xfrm>
          <a:custGeom>
            <a:avLst/>
            <a:gdLst>
              <a:gd name="textAreaLeft" fmla="*/ 411120 w 2349360"/>
              <a:gd name="textAreaRight" fmla="*/ 1703520 w 2349360"/>
              <a:gd name="textAreaTop" fmla="*/ 164880 h 1231920"/>
              <a:gd name="textAreaBottom" fmla="*/ 106704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68120" y="1679400"/>
            <a:ext cx="27151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100" spc="-1" strike="noStrike">
                <a:solidFill>
                  <a:srgbClr val="001e64"/>
                </a:solidFill>
                <a:latin typeface="Arial"/>
              </a:rPr>
              <a:t>Inpu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Content Type Cla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Metada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15880" y="1628640"/>
            <a:ext cx="14000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100" spc="-1" strike="noStrike">
                <a:solidFill>
                  <a:srgbClr val="001e64"/>
                </a:solidFill>
                <a:latin typeface="Arial"/>
              </a:rPr>
              <a:t>Outp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Taxonom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Se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1840" y="5462640"/>
            <a:ext cx="136836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e64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e64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384804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15160" y="468648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6840" y="468648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505476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06560" y="4876560"/>
            <a:ext cx="990720" cy="546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959200" y="5232240"/>
            <a:ext cx="2705040" cy="495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rrelation of Content Type Cla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nd Taxonom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156120" y="710640"/>
            <a:ext cx="2602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How to proc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42280" y="1762200"/>
            <a:ext cx="648684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vestigation of Information-Objects</a:t>
            </a:r>
            <a:br>
              <a:rPr sz="2800"/>
            </a:b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Association with Content Type Classes</a:t>
            </a:r>
            <a:br>
              <a:rPr sz="2800"/>
            </a:b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Association with  Metadata</a:t>
            </a:r>
            <a:br>
              <a:rPr sz="2800"/>
            </a:b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Association with Taxonom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44360" y="1627200"/>
          <a:ext cx="315756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627200"/>
                    <a:ext cx="31575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236600" y="1930320"/>
            <a:ext cx="7907400" cy="37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b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understood and useable b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2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uld b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dependent from organiz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3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houl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rectly guide to a task /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4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gt; 90% (80%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abi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r a period of one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ust be fro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rest / relevance for the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6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re must be at least 3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categor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und in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7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should have the sa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6600" y="2700360"/>
            <a:ext cx="755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60640" y="2700360"/>
            <a:ext cx="0" cy="31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6600" y="5884920"/>
            <a:ext cx="755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criteria for top level 0(level 1)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39880" y="1550160"/>
            <a:ext cx="36784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axonom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tent Typ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01360" y="73440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75360" y="710640"/>
            <a:ext cx="39758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r>
              <a:rPr b="0" lang="de-DE" sz="24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400" y="1726920"/>
            <a:ext cx="763056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Tax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a broad sense, the science of classifi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t more strictly the classific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ving and extinct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— </a:t>
            </a:r>
            <a:r>
              <a:rPr b="0" i="1" lang="de-DE" sz="2400" spc="-1" strike="noStrike">
                <a:solidFill>
                  <a:srgbClr val="000000"/>
                </a:solidFill>
                <a:latin typeface="hardmedia reference chars two"/>
              </a:rPr>
              <a:t>i.e.,</a:t>
            </a: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 biological classific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The term is derived from the Gr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hardmedia reference chars two"/>
              </a:rPr>
              <a:t>taxis</a:t>
            </a: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 (“arrangement”) and </a:t>
            </a:r>
            <a:r>
              <a:rPr b="0" i="1" lang="de-DE" sz="2400" spc="-1" strike="noStrike">
                <a:solidFill>
                  <a:srgbClr val="000000"/>
                </a:solidFill>
                <a:latin typeface="hardmedia reference chars two"/>
              </a:rPr>
              <a:t>nomos</a:t>
            </a: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 (“law”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We use it for the classification of information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17480" y="71064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62800" y="2549880"/>
            <a:ext cx="381564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Categ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luster of topics in taxono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17480" y="71064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4000" y="2184120"/>
            <a:ext cx="5684400" cy="21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Content Typ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 a synopsis of Metadata for similar types of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formation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69600" y="710640"/>
            <a:ext cx="3989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5760" y="2494080"/>
            <a:ext cx="577404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Meta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e data which describe an informa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3204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ntent structur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29440" y="1506600"/>
            <a:ext cx="3586680" cy="1121400"/>
            <a:chOff x="5329440" y="1506600"/>
            <a:chExt cx="3586680" cy="1121400"/>
          </a:xfrm>
        </p:grpSpPr>
        <p:sp>
          <p:nvSpPr>
            <p:cNvPr id="65" name=""/>
            <p:cNvSpPr/>
            <p:nvPr/>
          </p:nvSpPr>
          <p:spPr>
            <a:xfrm rot="10762200">
              <a:off x="5331960" y="2113200"/>
              <a:ext cx="973080" cy="455400"/>
            </a:xfrm>
            <a:custGeom>
              <a:avLst/>
              <a:gdLst>
                <a:gd name="textAreaLeft" fmla="*/ 151920 w 973080"/>
                <a:gd name="textAreaRight" fmla="*/ 851760 w 973080"/>
                <a:gd name="textAreaTop" fmla="*/ 113760 h 455400"/>
                <a:gd name="textAreaBottom" fmla="*/ 34164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30880" y="1506600"/>
              <a:ext cx="2685240" cy="11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fferent view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(topic,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organization, process,..)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Corporate Taxonomy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(top 2 layers) = topic vie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391280" y="2865600"/>
            <a:ext cx="4992120" cy="1746720"/>
            <a:chOff x="4391280" y="2865600"/>
            <a:chExt cx="4992120" cy="1746720"/>
          </a:xfrm>
        </p:grpSpPr>
        <p:sp>
          <p:nvSpPr>
            <p:cNvPr id="68" name=""/>
            <p:cNvSpPr/>
            <p:nvPr/>
          </p:nvSpPr>
          <p:spPr>
            <a:xfrm rot="9315600">
              <a:off x="4400640" y="3785400"/>
              <a:ext cx="1873440" cy="455400"/>
            </a:xfrm>
            <a:custGeom>
              <a:avLst/>
              <a:gdLst>
                <a:gd name="textAreaLeft" fmla="*/ 292680 w 1873440"/>
                <a:gd name="textAreaRight" fmla="*/ 1639440 w 1873440"/>
                <a:gd name="textAreaTop" fmla="*/ 113760 h 455400"/>
                <a:gd name="textAreaBottom" fmla="*/ 34164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11800" y="2865600"/>
              <a:ext cx="3171600" cy="13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and general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controlled vocabular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ules and template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building taxonomies for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communities, groups, regions,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112760" y="3583080"/>
            <a:ext cx="8068680" cy="2540520"/>
            <a:chOff x="1112760" y="3583080"/>
            <a:chExt cx="8068680" cy="2540520"/>
          </a:xfrm>
        </p:grpSpPr>
        <p:sp>
          <p:nvSpPr>
            <p:cNvPr id="71" name=""/>
            <p:cNvSpPr/>
            <p:nvPr/>
          </p:nvSpPr>
          <p:spPr>
            <a:xfrm flipH="1">
              <a:off x="1112760" y="3583080"/>
              <a:ext cx="561600" cy="85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8440" y="4743000"/>
              <a:ext cx="2673000" cy="13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uilding and maintaining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iz specific taxonom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ntrolled vocabular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to Corporate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Taxonomy and Metadat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398600" y="1486080"/>
            <a:ext cx="4900680" cy="2319120"/>
            <a:chOff x="1398600" y="1486080"/>
            <a:chExt cx="4900680" cy="2319120"/>
          </a:xfrm>
        </p:grpSpPr>
        <p:grpSp>
          <p:nvGrpSpPr>
            <p:cNvPr id="74" name=""/>
            <p:cNvGrpSpPr/>
            <p:nvPr/>
          </p:nvGrpSpPr>
          <p:grpSpPr>
            <a:xfrm>
              <a:off x="1571760" y="1803240"/>
              <a:ext cx="4501800" cy="1693800"/>
              <a:chOff x="1571760" y="1803240"/>
              <a:chExt cx="4501800" cy="1693800"/>
            </a:xfrm>
          </p:grpSpPr>
          <p:sp>
            <p:nvSpPr>
              <p:cNvPr id="75" name=""/>
              <p:cNvSpPr/>
              <p:nvPr/>
            </p:nvSpPr>
            <p:spPr>
              <a:xfrm>
                <a:off x="1571760" y="1803240"/>
                <a:ext cx="830520" cy="469440"/>
              </a:xfrm>
              <a:prstGeom prst="rect">
                <a:avLst/>
              </a:prstGeom>
              <a:solidFill>
                <a:srgbClr val="0073a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0" lang="de-DE" sz="1500" spc="-1" strike="noStrike">
                    <a:solidFill>
                      <a:srgbClr val="ffffff"/>
                    </a:solidFill>
                    <a:latin typeface="Arial"/>
                  </a:rPr>
                  <a:t>About u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93840" y="2436840"/>
                <a:ext cx="830520" cy="303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7" name=""/>
              <p:cNvCxnSpPr>
                <a:stCxn id="75" idx="2"/>
                <a:endCxn id="76" idx="1"/>
              </p:cNvCxnSpPr>
              <p:nvPr/>
            </p:nvCxnSpPr>
            <p:spPr>
              <a:xfrm flipH="1" rot="16200000">
                <a:off x="1932840" y="234252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78" name=""/>
              <p:cNvSpPr/>
              <p:nvPr/>
            </p:nvSpPr>
            <p:spPr>
              <a:xfrm>
                <a:off x="2193840" y="280728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9" name=""/>
              <p:cNvCxnSpPr>
                <a:stCxn id="75" idx="2"/>
                <a:endCxn id="78" idx="1"/>
              </p:cNvCxnSpPr>
              <p:nvPr/>
            </p:nvCxnSpPr>
            <p:spPr>
              <a:xfrm flipH="1" rot="16200000">
                <a:off x="1747080" y="2528640"/>
                <a:ext cx="669600" cy="19260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0" name=""/>
              <p:cNvSpPr/>
              <p:nvPr/>
            </p:nvSpPr>
            <p:spPr>
              <a:xfrm>
                <a:off x="2797560" y="1803240"/>
                <a:ext cx="830520" cy="469440"/>
              </a:xfrm>
              <a:prstGeom prst="rect">
                <a:avLst/>
              </a:prstGeom>
              <a:solidFill>
                <a:srgbClr val="0073a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0" lang="de-DE" sz="1500" spc="-1" strike="noStrike">
                    <a:solidFill>
                      <a:srgbClr val="ffffff"/>
                    </a:solidFill>
                    <a:latin typeface="Arial"/>
                  </a:rPr>
                  <a:t>Business</a:t>
                </a:r>
                <a:br>
                  <a:rPr sz="1500"/>
                </a:br>
                <a:r>
                  <a:rPr b="0" lang="de-DE" sz="1500" spc="-1" strike="noStrike">
                    <a:solidFill>
                      <a:srgbClr val="ffffff"/>
                    </a:solidFill>
                    <a:latin typeface="Arial"/>
                  </a:rPr>
                  <a:t>Type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21080" y="2436840"/>
                <a:ext cx="830520" cy="303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80" idx="2"/>
                <a:endCxn id="81" idx="1"/>
              </p:cNvCxnSpPr>
              <p:nvPr/>
            </p:nvCxnSpPr>
            <p:spPr>
              <a:xfrm flipH="1" rot="16200000">
                <a:off x="3160080" y="234252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3" name=""/>
              <p:cNvSpPr/>
              <p:nvPr/>
            </p:nvSpPr>
            <p:spPr>
              <a:xfrm>
                <a:off x="3419640" y="280728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1"/>
              </p:cNvCxnSpPr>
              <p:nvPr/>
            </p:nvCxnSpPr>
            <p:spPr>
              <a:xfrm flipH="1" rot="16200000">
                <a:off x="2975400" y="2528280"/>
                <a:ext cx="669600" cy="1929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5" name=""/>
              <p:cNvSpPr/>
              <p:nvPr/>
            </p:nvSpPr>
            <p:spPr>
              <a:xfrm>
                <a:off x="4619880" y="1803240"/>
                <a:ext cx="830520" cy="469440"/>
              </a:xfrm>
              <a:prstGeom prst="rect">
                <a:avLst/>
              </a:prstGeom>
              <a:solidFill>
                <a:srgbClr val="0073a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243040" y="2436840"/>
                <a:ext cx="830520" cy="303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7" name=""/>
              <p:cNvCxnSpPr>
                <a:stCxn id="85" idx="2"/>
                <a:endCxn id="86" idx="1"/>
              </p:cNvCxnSpPr>
              <p:nvPr/>
            </p:nvCxnSpPr>
            <p:spPr>
              <a:xfrm flipH="1" rot="16200000">
                <a:off x="4982040" y="234252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8" name=""/>
              <p:cNvSpPr/>
              <p:nvPr/>
            </p:nvSpPr>
            <p:spPr>
              <a:xfrm>
                <a:off x="5241600" y="280728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9" name=""/>
              <p:cNvCxnSpPr>
                <a:stCxn id="85" idx="2"/>
                <a:endCxn id="88" idx="1"/>
              </p:cNvCxnSpPr>
              <p:nvPr/>
            </p:nvCxnSpPr>
            <p:spPr>
              <a:xfrm flipH="1" rot="16200000">
                <a:off x="4796280" y="2528640"/>
                <a:ext cx="669600" cy="19260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0" name=""/>
              <p:cNvSpPr/>
              <p:nvPr/>
            </p:nvSpPr>
            <p:spPr>
              <a:xfrm>
                <a:off x="2193840" y="319284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75" idx="2"/>
                <a:endCxn id="90" idx="1"/>
              </p:cNvCxnSpPr>
              <p:nvPr/>
            </p:nvCxnSpPr>
            <p:spPr>
              <a:xfrm flipH="1" rot="16200000">
                <a:off x="1554840" y="2720520"/>
                <a:ext cx="1055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2" name=""/>
              <p:cNvSpPr/>
              <p:nvPr/>
            </p:nvSpPr>
            <p:spPr>
              <a:xfrm>
                <a:off x="3421080" y="319284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3" name=""/>
              <p:cNvCxnSpPr>
                <a:stCxn id="80" idx="2"/>
                <a:endCxn id="92" idx="1"/>
              </p:cNvCxnSpPr>
              <p:nvPr/>
            </p:nvCxnSpPr>
            <p:spPr>
              <a:xfrm flipH="1" rot="16200000">
                <a:off x="2782080" y="2720520"/>
                <a:ext cx="1055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4" name=""/>
              <p:cNvSpPr/>
              <p:nvPr/>
            </p:nvSpPr>
            <p:spPr>
              <a:xfrm>
                <a:off x="5243040" y="319284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5" name=""/>
              <p:cNvCxnSpPr>
                <a:stCxn id="85" idx="2"/>
                <a:endCxn id="94" idx="1"/>
              </p:cNvCxnSpPr>
              <p:nvPr/>
            </p:nvCxnSpPr>
            <p:spPr>
              <a:xfrm flipH="1" rot="16200000">
                <a:off x="4604040" y="2720520"/>
                <a:ext cx="1055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6" name=""/>
              <p:cNvSpPr/>
              <p:nvPr/>
            </p:nvSpPr>
            <p:spPr>
              <a:xfrm>
                <a:off x="4489920" y="2832480"/>
                <a:ext cx="37944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t">
                <a:spAutoFit/>
              </a:bodyPr>
              <a:p>
                <a:pPr algn="ctr"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2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flipV="1">
              <a:off x="5384880" y="1581120"/>
              <a:ext cx="914400" cy="2224080"/>
            </a:xfrm>
            <a:prstGeom prst="flowChartExtra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Top </a:t>
              </a:r>
              <a:br>
                <a:rPr sz="1700"/>
              </a:b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98600" y="1486080"/>
              <a:ext cx="4392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Corporate</a:t>
              </a: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Taxonom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241280" y="4040280"/>
            <a:ext cx="5058000" cy="2224080"/>
            <a:chOff x="1241280" y="4040280"/>
            <a:chExt cx="5058000" cy="2224080"/>
          </a:xfrm>
        </p:grpSpPr>
        <p:grpSp>
          <p:nvGrpSpPr>
            <p:cNvPr id="100" name=""/>
            <p:cNvGrpSpPr/>
            <p:nvPr/>
          </p:nvGrpSpPr>
          <p:grpSpPr>
            <a:xfrm>
              <a:off x="1241280" y="4627440"/>
              <a:ext cx="4813200" cy="1517400"/>
              <a:chOff x="1241280" y="4627440"/>
              <a:chExt cx="4813200" cy="1517400"/>
            </a:xfrm>
          </p:grpSpPr>
          <p:sp>
            <p:nvSpPr>
              <p:cNvPr id="101" name=""/>
              <p:cNvSpPr/>
              <p:nvPr/>
            </p:nvSpPr>
            <p:spPr>
              <a:xfrm>
                <a:off x="1241280" y="4627440"/>
                <a:ext cx="1103760" cy="316080"/>
              </a:xfrm>
              <a:prstGeom prst="rect">
                <a:avLst/>
              </a:prstGeom>
              <a:solidFill>
                <a:srgbClr val="6699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CoP Meta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37680" y="5083920"/>
                <a:ext cx="830520" cy="30420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3" name=""/>
              <p:cNvCxnSpPr>
                <a:stCxn id="101" idx="2"/>
                <a:endCxn id="102" idx="1"/>
              </p:cNvCxnSpPr>
              <p:nvPr/>
            </p:nvCxnSpPr>
            <p:spPr>
              <a:xfrm flipH="1" rot="16200000">
                <a:off x="1819800" y="4933080"/>
                <a:ext cx="275400" cy="3315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4" name=""/>
              <p:cNvSpPr/>
              <p:nvPr/>
            </p:nvSpPr>
            <p:spPr>
              <a:xfrm>
                <a:off x="2136240" y="5455080"/>
                <a:ext cx="830520" cy="30420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5" name=""/>
              <p:cNvCxnSpPr>
                <a:stCxn id="101" idx="2"/>
                <a:endCxn id="104" idx="1"/>
              </p:cNvCxnSpPr>
              <p:nvPr/>
            </p:nvCxnSpPr>
            <p:spPr>
              <a:xfrm flipH="1" rot="16200000">
                <a:off x="1634040" y="5118840"/>
                <a:ext cx="645840" cy="33012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6" name=""/>
              <p:cNvSpPr/>
              <p:nvPr/>
            </p:nvSpPr>
            <p:spPr>
              <a:xfrm>
                <a:off x="2137680" y="5840640"/>
                <a:ext cx="830520" cy="30420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7" name=""/>
              <p:cNvCxnSpPr>
                <a:stCxn id="101" idx="2"/>
                <a:endCxn id="106" idx="1"/>
              </p:cNvCxnSpPr>
              <p:nvPr/>
            </p:nvCxnSpPr>
            <p:spPr>
              <a:xfrm flipH="1" rot="16200000">
                <a:off x="1441440" y="5311440"/>
                <a:ext cx="1032120" cy="3315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2883240" y="4627440"/>
                <a:ext cx="830160" cy="29232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Group IC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06400" y="5083920"/>
                <a:ext cx="830160" cy="304200"/>
              </a:xfrm>
              <a:prstGeom prst="rect">
                <a:avLst/>
              </a:prstGeom>
              <a:solidFill>
                <a:srgbClr val="fe997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0" name=""/>
              <p:cNvCxnSpPr>
                <a:stCxn id="108" idx="2"/>
                <a:endCxn id="109" idx="1"/>
              </p:cNvCxnSpPr>
              <p:nvPr/>
            </p:nvCxnSpPr>
            <p:spPr>
              <a:xfrm flipH="1" rot="16200000">
                <a:off x="3245400" y="498996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1" name=""/>
              <p:cNvSpPr/>
              <p:nvPr/>
            </p:nvSpPr>
            <p:spPr>
              <a:xfrm>
                <a:off x="3504960" y="5455080"/>
                <a:ext cx="830520" cy="304200"/>
              </a:xfrm>
              <a:prstGeom prst="rect">
                <a:avLst/>
              </a:prstGeom>
              <a:solidFill>
                <a:srgbClr val="fe997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2" name=""/>
              <p:cNvCxnSpPr>
                <a:stCxn id="108" idx="2"/>
                <a:endCxn id="111" idx="1"/>
              </p:cNvCxnSpPr>
              <p:nvPr/>
            </p:nvCxnSpPr>
            <p:spPr>
              <a:xfrm flipH="1" rot="16200000">
                <a:off x="3059280" y="5176080"/>
                <a:ext cx="669960" cy="19260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3" name=""/>
              <p:cNvSpPr/>
              <p:nvPr/>
            </p:nvSpPr>
            <p:spPr>
              <a:xfrm>
                <a:off x="3506400" y="5840640"/>
                <a:ext cx="830160" cy="304200"/>
              </a:xfrm>
              <a:prstGeom prst="rect">
                <a:avLst/>
              </a:prstGeom>
              <a:solidFill>
                <a:srgbClr val="fe997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4" name=""/>
              <p:cNvCxnSpPr>
                <a:stCxn id="108" idx="2"/>
                <a:endCxn id="113" idx="1"/>
              </p:cNvCxnSpPr>
              <p:nvPr/>
            </p:nvCxnSpPr>
            <p:spPr>
              <a:xfrm flipH="1" rot="16200000">
                <a:off x="2867040" y="5368320"/>
                <a:ext cx="105588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5" name=""/>
              <p:cNvSpPr/>
              <p:nvPr/>
            </p:nvSpPr>
            <p:spPr>
              <a:xfrm>
                <a:off x="4602240" y="4627440"/>
                <a:ext cx="830160" cy="292320"/>
              </a:xfrm>
              <a:prstGeom prst="rect">
                <a:avLst/>
              </a:prstGeom>
              <a:solidFill>
                <a:srgbClr val="676767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gion X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223960" y="5083920"/>
                <a:ext cx="830520" cy="30420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7" name=""/>
              <p:cNvCxnSpPr>
                <a:stCxn id="115" idx="2"/>
                <a:endCxn id="116" idx="1"/>
              </p:cNvCxnSpPr>
              <p:nvPr/>
            </p:nvCxnSpPr>
            <p:spPr>
              <a:xfrm flipH="1" rot="16200000">
                <a:off x="4962960" y="498996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8" name=""/>
              <p:cNvSpPr/>
              <p:nvPr/>
            </p:nvSpPr>
            <p:spPr>
              <a:xfrm>
                <a:off x="5222880" y="5455080"/>
                <a:ext cx="830520" cy="30420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9" name=""/>
              <p:cNvCxnSpPr>
                <a:stCxn id="115" idx="2"/>
                <a:endCxn id="118" idx="1"/>
              </p:cNvCxnSpPr>
              <p:nvPr/>
            </p:nvCxnSpPr>
            <p:spPr>
              <a:xfrm flipH="1" rot="16200000">
                <a:off x="4777920" y="5175720"/>
                <a:ext cx="669960" cy="1929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20" name=""/>
              <p:cNvSpPr/>
              <p:nvPr/>
            </p:nvSpPr>
            <p:spPr>
              <a:xfrm>
                <a:off x="5223960" y="5840640"/>
                <a:ext cx="830520" cy="30420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1" name=""/>
              <p:cNvCxnSpPr>
                <a:stCxn id="115" idx="2"/>
                <a:endCxn id="120" idx="1"/>
              </p:cNvCxnSpPr>
              <p:nvPr/>
            </p:nvCxnSpPr>
            <p:spPr>
              <a:xfrm flipH="1" rot="16200000">
                <a:off x="4584600" y="5368320"/>
                <a:ext cx="105588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22" name=""/>
              <p:cNvSpPr/>
              <p:nvPr/>
            </p:nvSpPr>
            <p:spPr>
              <a:xfrm>
                <a:off x="4489920" y="5339880"/>
                <a:ext cx="37944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t">
                <a:spAutoFit/>
              </a:bodyPr>
              <a:p>
                <a:pPr algn="ctr"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2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5384880" y="4040280"/>
              <a:ext cx="914400" cy="2224080"/>
            </a:xfrm>
            <a:prstGeom prst="flowChartExtra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Botto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55920" y="4314960"/>
              <a:ext cx="4394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specific</a:t>
              </a: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Taxonom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32000" y="2043000"/>
            <a:ext cx="7049880" cy="315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500" spc="-1" strike="noStrike">
                <a:solidFill>
                  <a:srgbClr val="000066"/>
                </a:solidFill>
                <a:latin typeface="Arial"/>
              </a:rPr>
              <a:t>TOP CATEGORIES of Corporate Taxonom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rporate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2486160"/>
            <a:ext cx="3414600" cy="2629800"/>
          </a:xfrm>
          <a:prstGeom prst="rect">
            <a:avLst/>
          </a:prstGeom>
          <a:solidFill>
            <a:srgbClr val="d3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About u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is my company/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Business Types</a:t>
            </a:r>
            <a:r>
              <a:rPr b="1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nl-BE" sz="1000" spc="-1" strike="noStrike">
                <a:solidFill>
                  <a:srgbClr val="001e64"/>
                </a:solidFill>
                <a:latin typeface="Arial"/>
              </a:rPr>
              <a:t>(Prod., Solutions, Proj., Serv.)</a:t>
            </a:r>
            <a:br>
              <a:rPr sz="10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do we off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Contacts &amp; Support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o can I contact w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Employee Topic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human resources services are available for 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Markets &amp; Trend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do we know about our mark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67280" y="2486160"/>
            <a:ext cx="3414600" cy="2234160"/>
          </a:xfrm>
          <a:prstGeom prst="rect">
            <a:avLst/>
          </a:prstGeom>
          <a:solidFill>
            <a:srgbClr val="d3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News &amp; Event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´s going on around my company/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Processes &amp; Role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are our business proces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Technologie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technologies do we use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Tools &amp; Experience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can help me work more effectiv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86680" y="5780160"/>
            <a:ext cx="13438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500" spc="-1" strike="noStrike">
                <a:solidFill>
                  <a:srgbClr val="ff0000"/>
                </a:solidFill>
                <a:latin typeface="Arial"/>
              </a:rPr>
              <a:t>Main Ques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07040" y="5329080"/>
            <a:ext cx="30258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2400" spc="-1" strike="noStrike" u="sng">
                <a:solidFill>
                  <a:srgbClr val="001e64"/>
                </a:solidFill>
                <a:uFillTx/>
                <a:latin typeface="Arial"/>
              </a:rPr>
              <a:t>TOP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1329480" y="3909240"/>
            <a:ext cx="39164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LEVEL 0, first entr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7440" y="4814640"/>
            <a:ext cx="984240" cy="88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796920" y="5156280"/>
            <a:ext cx="655560" cy="738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44360" y="1627200"/>
          <a:ext cx="315756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627200"/>
                    <a:ext cx="31575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268800" y="1638360"/>
            <a:ext cx="574812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alyses, Studies, Trend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market studies, portfolio analyses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any Profiles 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 customers, partners, … 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untry Aspect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religion, culture, customs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stitutions &amp; Government agencie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 DIN, FDA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n Government Organization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 Greenpeace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Example level 1 Markets &amp;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066680" y="1508040"/>
            <a:ext cx="1650960" cy="114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04840" y="2959200"/>
            <a:ext cx="1770120" cy="3520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Content Structure Concept</dc:description>
  <dc:language>en-US</dc:language>
  <cp:lastModifiedBy>d003179</cp:lastModifiedBy>
  <cp:lastPrinted>2000-05-10T17:23:18Z</cp:lastPrinted>
  <dcterms:modified xsi:type="dcterms:W3CDTF">2003-07-01T12:49:28Z</dcterms:modified>
  <cp:revision>456</cp:revision>
  <dc:subject/>
  <dc:title>EP Sample Content Structure Concept</dc:title>
</cp:coreProperties>
</file>