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5E4EB247-18BF-4A31-8DE1-F476E1E7066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57120"/>
            <a:ext cx="868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Implementation Phases: AIM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6080" y="847800"/>
            <a:ext cx="72183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4480" y="1535040"/>
            <a:ext cx="164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03680" y="1587600"/>
            <a:ext cx="10108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Pro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c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esse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9640" y="1809720"/>
            <a:ext cx="9104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Function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610160"/>
            <a:ext cx="3722760" cy="146052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84320" y="3648240"/>
            <a:ext cx="3705120" cy="1134720"/>
            <a:chOff x="1084320" y="3648240"/>
            <a:chExt cx="3705120" cy="1134720"/>
          </a:xfrm>
        </p:grpSpPr>
        <p:sp>
          <p:nvSpPr>
            <p:cNvPr id="55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  <a:lnTo>
                    <a:pt x="214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4772160" y="3579480"/>
            <a:ext cx="17280" cy="249084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4040" y="3957480"/>
            <a:ext cx="13510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9800" y="3975120"/>
            <a:ext cx="22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73c83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87440" y="39751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62360" y="39751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8600" y="39751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5360" y="4284720"/>
            <a:ext cx="335916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5400" y="4730760"/>
            <a:ext cx="17478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7080" y="2514600"/>
            <a:ext cx="1695240" cy="113364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66"/>
                </a:moveTo>
                <a:cubicBezTo>
                  <a:pt x="0" y="66"/>
                  <a:pt x="0" y="65"/>
                  <a:pt x="0" y="65"/>
                </a:cubicBezTo>
                <a:cubicBezTo>
                  <a:pt x="0" y="29"/>
                  <a:pt x="43" y="0"/>
                  <a:pt x="98" y="0"/>
                </a:cubicBezTo>
              </a:path>
            </a:pathLst>
          </a:custGeom>
          <a:noFill/>
          <a:ln w="5256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44960" y="306396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23160" y="3081240"/>
            <a:ext cx="339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25640" y="308124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9120" y="30812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5360" y="3081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0200" y="3459240"/>
            <a:ext cx="18018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15800" y="3510000"/>
            <a:ext cx="91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486480" y="2496600"/>
            <a:ext cx="1800" cy="367668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6480" y="2532240"/>
            <a:ext cx="1695600" cy="353844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486480" y="1328760"/>
            <a:ext cx="1695600" cy="1220760"/>
            <a:chOff x="6486480" y="1328760"/>
            <a:chExt cx="1695600" cy="1220760"/>
          </a:xfrm>
        </p:grpSpPr>
        <p:sp>
          <p:nvSpPr>
            <p:cNvPr id="76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  <a:lnTo>
                    <a:pt x="98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745320" y="19130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560" y="1930320"/>
            <a:ext cx="3952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43280" y="19303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34400" y="19303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83360" y="19303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6480" y="3063960"/>
            <a:ext cx="16779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15160" y="5761080"/>
            <a:ext cx="346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19760" y="5780160"/>
            <a:ext cx="512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273c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14480" y="2171880"/>
            <a:ext cx="7358040" cy="3968640"/>
            <a:chOff x="1014480" y="2171880"/>
            <a:chExt cx="7358040" cy="3968640"/>
          </a:xfrm>
        </p:grpSpPr>
        <p:sp>
          <p:nvSpPr>
            <p:cNvPr id="87" name=""/>
            <p:cNvSpPr/>
            <p:nvPr/>
          </p:nvSpPr>
          <p:spPr>
            <a:xfrm>
              <a:off x="1066680" y="2257560"/>
              <a:ext cx="7220160" cy="3813120"/>
            </a:xfrm>
            <a:custGeom>
              <a:avLst/>
              <a:gdLst/>
              <a:ahLst/>
              <a:rect l="l" t="t" r="r" b="b"/>
              <a:pathLst>
                <a:path w="417" h="222">
                  <a:moveTo>
                    <a:pt x="0" y="0"/>
                  </a:moveTo>
                  <a:lnTo>
                    <a:pt x="0" y="222"/>
                  </a:lnTo>
                  <a:lnTo>
                    <a:pt x="417" y="222"/>
                  </a:lnTo>
                </a:path>
              </a:pathLst>
            </a:custGeom>
            <a:noFill/>
            <a:ln w="1764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4480" y="2171880"/>
              <a:ext cx="122040" cy="11880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75"/>
                  </a:moveTo>
                  <a:lnTo>
                    <a:pt x="33" y="0"/>
                  </a:lnTo>
                  <a:lnTo>
                    <a:pt x="0" y="75"/>
                  </a:lnTo>
                  <a:lnTo>
                    <a:pt x="77" y="75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51920" y="601992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6"/>
                  </a:moveTo>
                  <a:lnTo>
                    <a:pt x="76" y="32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515600" y="4267080"/>
            <a:ext cx="246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ild up Information Servic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and Management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7520" y="3352680"/>
            <a:ext cx="101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2160" y="2895480"/>
            <a:ext cx="79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r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76400" y="4724280"/>
            <a:ext cx="180504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In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ustry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ick Po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78800" y="2286000"/>
            <a:ext cx="120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Proces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7560" y="3886200"/>
            <a:ext cx="12168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il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M Repository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o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Rooms fo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3600" y="3276720"/>
            <a:ext cx="120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3160" y="2209680"/>
            <a:ext cx="8175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1240" y="914400"/>
            <a:ext cx="784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.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3560" y="3352680"/>
            <a:ext cx="11664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chas Ord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ster Data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Implementation Phases</dc:description>
  <dc:language>en-US</dc:language>
  <cp:lastModifiedBy>d031429</cp:lastModifiedBy>
  <cp:lastPrinted>2000-05-10T17:23:18Z</cp:lastPrinted>
  <dcterms:modified xsi:type="dcterms:W3CDTF">2003-11-20T12:52:50Z</dcterms:modified>
  <cp:revision>457</cp:revision>
  <dc:subject/>
  <dc:title>EP Sample Content Implementation Phases</dc:title>
</cp:coreProperties>
</file>