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CE813D4A-F431-4D6A-B38A-D8AA2B3633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al/KM Subprojec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Customer Info Sharing”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Level Content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123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usiness Typ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mission / engine / platform / vehicle roadmap with timing and volu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tive projects with link to engine, transmission, platform vehicle, project t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 and conditions (Cust1, common and XX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sharing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 parts process and conce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existing contracts (licenses, etc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eting minutes and pres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er 1 supplier per module/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s &amp; Sup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ision makers / OrgCharts / Contacts / Exp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s from divisions or VAT with functions (internal; equal community member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Technology roadm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etitor 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 share per product from XX and compet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s &amp; Even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business opportunities (proactive / reactive; ongoing acquisition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YY monthly re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news; Up coming ev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es &amp; Rol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known quality problems (red aler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quality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ivity agre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rget agreements (prices?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project timing planning (secured busine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approach customer change request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part number change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t breakdown deta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st Center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&amp;D rates and break dow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mpl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cellation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ec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ement of work (techn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definition (connected to proj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 &amp; Experienc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surve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03179</cp:lastModifiedBy>
  <cp:lastPrinted>2000-05-10T17:23:18Z</cp:lastPrinted>
  <dcterms:modified xsi:type="dcterms:W3CDTF">2003-07-01T12:32:50Z</dcterms:modified>
  <cp:revision>456</cp:revision>
  <dc:subject/>
  <dc:title>EP Sample High Level Content Specification </dc:title>
</cp:coreProperties>
</file>