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25092C6C-9FDC-4A39-A6D5-55C9F00E8609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AP EP 6.0 Highlights: Delegated Admin (2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 authorizations can be restricted to portal obje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atAdmin" descr=""/>
          <p:cNvPicPr/>
          <p:nvPr/>
        </p:nvPicPr>
        <p:blipFill>
          <a:blip r:embed="rId1"/>
          <a:srcRect l="0" t="0" r="68505" b="30274"/>
          <a:stretch/>
        </p:blipFill>
        <p:spPr>
          <a:xfrm>
            <a:off x="895320" y="1407960"/>
            <a:ext cx="2921040" cy="5043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9" name="CatUser" descr=""/>
          <p:cNvPicPr/>
          <p:nvPr/>
        </p:nvPicPr>
        <p:blipFill>
          <a:blip r:embed="rId2"/>
          <a:srcRect l="0" t="0" r="67539" b="50291"/>
          <a:stretch/>
        </p:blipFill>
        <p:spPr>
          <a:xfrm>
            <a:off x="4586400" y="1614600"/>
            <a:ext cx="3192480" cy="3813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874880" y="2728800"/>
            <a:ext cx="20599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uper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mplete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ortal C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8760" y="3343320"/>
            <a:ext cx="3061080" cy="974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ntent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cer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folders (read/writ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11800" y="4835520"/>
            <a:ext cx="474480" cy="149400"/>
          </a:xfrm>
          <a:prstGeom prst="rect">
            <a:avLst/>
          </a:prstGeom>
          <a:solidFill>
            <a:srgbClr val="f6f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7T08:59:01Z</dcterms:modified>
  <cp:revision>20</cp:revision>
  <dc:subject/>
  <dc:title>EP Example Content Catalog</dc:title>
</cp:coreProperties>
</file>