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AE07589-F6E3-4A58-98ED-51960CF781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Relevant Process Scenari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7779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26160" y="4322880"/>
            <a:ext cx="596880" cy="163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24480" y="3216240"/>
            <a:ext cx="1968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3840" y="36100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2760" y="363708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ua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0" y="32418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mpaig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3040" y="1676520"/>
            <a:ext cx="1968480" cy="4303080"/>
            <a:chOff x="473040" y="1676520"/>
            <a:chExt cx="1968480" cy="4303080"/>
          </a:xfrm>
        </p:grpSpPr>
        <p:sp>
          <p:nvSpPr>
            <p:cNvPr id="54" name=""/>
            <p:cNvSpPr/>
            <p:nvPr/>
          </p:nvSpPr>
          <p:spPr>
            <a:xfrm>
              <a:off x="851040" y="2705040"/>
              <a:ext cx="838080" cy="32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5373360"/>
              <a:ext cx="8125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73040" y="1676520"/>
              <a:ext cx="1968480" cy="1106280"/>
              <a:chOff x="473040" y="1676520"/>
              <a:chExt cx="1968480" cy="1106280"/>
            </a:xfrm>
          </p:grpSpPr>
          <p:sp>
            <p:nvSpPr>
              <p:cNvPr id="57" name=""/>
              <p:cNvSpPr/>
              <p:nvPr/>
            </p:nvSpPr>
            <p:spPr>
              <a:xfrm>
                <a:off x="473040" y="1676520"/>
                <a:ext cx="1968480" cy="1106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2400" y="2070000"/>
                <a:ext cx="19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320" y="2097000"/>
                <a:ext cx="1783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Available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Locked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aterial Descri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440" y="1701720"/>
                <a:ext cx="1784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179360" y="1736640"/>
              <a:ext cx="561960" cy="28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641680" y="4322880"/>
            <a:ext cx="406440" cy="163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536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41600" y="3216240"/>
            <a:ext cx="1968480" cy="1106640"/>
            <a:chOff x="1641600" y="3216240"/>
            <a:chExt cx="1968480" cy="1106640"/>
          </a:xfrm>
        </p:grpSpPr>
        <p:sp>
          <p:nvSpPr>
            <p:cNvPr id="65" name=""/>
            <p:cNvSpPr/>
            <p:nvPr/>
          </p:nvSpPr>
          <p:spPr>
            <a:xfrm>
              <a:off x="1641600" y="3216240"/>
              <a:ext cx="196848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50960" y="36100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9880" y="3637080"/>
              <a:ext cx="178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eria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7000" y="32418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5918040" y="2705040"/>
            <a:ext cx="1549440" cy="323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0560" y="5373720"/>
            <a:ext cx="8125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83120" y="1676520"/>
            <a:ext cx="1968480" cy="1106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2070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209700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hanced 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4760" y="327672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160" y="175248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240" y="8460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8720" y="5332320"/>
            <a:ext cx="208620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u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73600" y="486360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9440" y="5732280"/>
            <a:ext cx="162540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9400" y="5732640"/>
            <a:ext cx="1625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5904000"/>
            <a:ext cx="8300880" cy="468360"/>
          </a:xfrm>
          <a:prstGeom prst="rightArrow">
            <a:avLst>
              <a:gd name="adj1" fmla="val 50000"/>
              <a:gd name="adj2" fmla="val 443082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5040" y="38782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6376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36600" y="1409760"/>
            <a:ext cx="5278680" cy="3459240"/>
            <a:chOff x="1236600" y="1409760"/>
            <a:chExt cx="5278680" cy="3459240"/>
          </a:xfrm>
        </p:grpSpPr>
        <p:sp>
          <p:nvSpPr>
            <p:cNvPr id="88" name=""/>
            <p:cNvSpPr/>
            <p:nvPr/>
          </p:nvSpPr>
          <p:spPr>
            <a:xfrm>
              <a:off x="1244520" y="14148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0520" y="17701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2113200"/>
              <a:ext cx="1422720" cy="237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4840" y="2125800"/>
              <a:ext cx="1409760" cy="234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3392640"/>
              <a:ext cx="1422360" cy="108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3520" y="2125800"/>
              <a:ext cx="1409760" cy="118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8200" y="2098800"/>
              <a:ext cx="892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8320" y="2111400"/>
              <a:ext cx="109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X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57680" y="212436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Campa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9240" y="34322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YY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240" y="317520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ocked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560" y="4018320"/>
              <a:ext cx="159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h.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120" y="320076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2640" y="26672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ctual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6600" y="14097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3240" y="1793880"/>
              <a:ext cx="23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tock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26467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26467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26593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6160" y="3949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240" y="8082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09600" y="1628640"/>
            <a:ext cx="1701720" cy="4330800"/>
            <a:chOff x="1209600" y="1628640"/>
            <a:chExt cx="1701720" cy="4330800"/>
          </a:xfrm>
        </p:grpSpPr>
        <p:sp>
          <p:nvSpPr>
            <p:cNvPr id="111" name=""/>
            <p:cNvSpPr/>
            <p:nvPr/>
          </p:nvSpPr>
          <p:spPr>
            <a:xfrm>
              <a:off x="2311560" y="2735280"/>
              <a:ext cx="342720" cy="322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09600" y="1628640"/>
              <a:ext cx="1701720" cy="1106280"/>
              <a:chOff x="1209600" y="1628640"/>
              <a:chExt cx="1701720" cy="1106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209600" y="1628640"/>
                <a:ext cx="1701720" cy="1106280"/>
                <a:chOff x="1209600" y="1628640"/>
                <a:chExt cx="1701720" cy="110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09600" y="1628640"/>
                  <a:ext cx="17017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217520" y="2022120"/>
                  <a:ext cx="167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94560" y="2049120"/>
                  <a:ext cx="1539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Tech. Institu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Status T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92040" y="1653840"/>
                  <a:ext cx="15422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4200" y="1714320"/>
                <a:ext cx="134568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2222640" y="47545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82680" y="5435640"/>
            <a:ext cx="203400" cy="53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6280" y="4356000"/>
            <a:ext cx="1701720" cy="1106640"/>
            <a:chOff x="206280" y="4356000"/>
            <a:chExt cx="1701720" cy="1106640"/>
          </a:xfrm>
        </p:grpSpPr>
        <p:sp>
          <p:nvSpPr>
            <p:cNvPr id="122" name=""/>
            <p:cNvSpPr/>
            <p:nvPr/>
          </p:nvSpPr>
          <p:spPr>
            <a:xfrm>
              <a:off x="206280" y="4356000"/>
              <a:ext cx="170172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200" y="4749840"/>
              <a:ext cx="16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240" y="4776840"/>
              <a:ext cx="154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l to Q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720" y="4381560"/>
              <a:ext cx="15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561492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1120" y="4343400"/>
            <a:ext cx="172692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47372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6800" y="476424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436896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9240" y="5450040"/>
            <a:ext cx="57132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55156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2320" y="3076560"/>
            <a:ext cx="1725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0240" y="3470400"/>
            <a:ext cx="17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4974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lier, Material,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6200" y="3102120"/>
            <a:ext cx="156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54320" y="4170240"/>
            <a:ext cx="406440" cy="178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6840" y="52214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45200" y="2735280"/>
            <a:ext cx="482400" cy="329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4400" y="1628640"/>
            <a:ext cx="17272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2320" y="20224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49480"/>
            <a:ext cx="16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ing Sche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8640" y="1654200"/>
            <a:ext cx="156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3360" y="47480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63760" y="2189160"/>
            <a:ext cx="1905120" cy="3878280"/>
            <a:chOff x="3263760" y="2189160"/>
            <a:chExt cx="1905120" cy="3878280"/>
          </a:xfrm>
        </p:grpSpPr>
        <p:grpSp>
          <p:nvGrpSpPr>
            <p:cNvPr id="146" name=""/>
            <p:cNvGrpSpPr/>
            <p:nvPr/>
          </p:nvGrpSpPr>
          <p:grpSpPr>
            <a:xfrm>
              <a:off x="3263760" y="2189160"/>
              <a:ext cx="1755720" cy="1106280"/>
              <a:chOff x="3263760" y="2189160"/>
              <a:chExt cx="1755720" cy="1106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3760" y="2189160"/>
                <a:ext cx="1755720" cy="1106280"/>
                <a:chOff x="3263760" y="2189160"/>
                <a:chExt cx="1755720" cy="110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67000" y="2189160"/>
                  <a:ext cx="17269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74920" y="2582640"/>
                  <a:ext cx="17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63760" y="2609640"/>
                  <a:ext cx="1755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Onlie Supplier Guide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B2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50880" y="2214360"/>
                  <a:ext cx="15652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6800" y="2287440"/>
                <a:ext cx="134640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4800600" y="3300480"/>
              <a:ext cx="0" cy="276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70280" y="3648240"/>
            <a:ext cx="1730160" cy="2306520"/>
            <a:chOff x="2870280" y="3648240"/>
            <a:chExt cx="1730160" cy="2306520"/>
          </a:xfrm>
        </p:grpSpPr>
        <p:grpSp>
          <p:nvGrpSpPr>
            <p:cNvPr id="156" name=""/>
            <p:cNvGrpSpPr/>
            <p:nvPr/>
          </p:nvGrpSpPr>
          <p:grpSpPr>
            <a:xfrm>
              <a:off x="2911320" y="3648240"/>
              <a:ext cx="1689120" cy="1106280"/>
              <a:chOff x="2911320" y="3648240"/>
              <a:chExt cx="1689120" cy="11062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911320" y="3648240"/>
                <a:ext cx="1689120" cy="1106280"/>
                <a:chOff x="2911320" y="3648240"/>
                <a:chExt cx="1689120" cy="1106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911320" y="364824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919240" y="40417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95560" y="406872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urchas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93040" y="367344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4320" y="370836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 flipH="1">
              <a:off x="3136680" y="4754520"/>
              <a:ext cx="12600" cy="120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028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00" y="3052800"/>
            <a:ext cx="2004840" cy="2901960"/>
            <a:chOff x="471600" y="3052800"/>
            <a:chExt cx="2004840" cy="2901960"/>
          </a:xfrm>
        </p:grpSpPr>
        <p:sp>
          <p:nvSpPr>
            <p:cNvPr id="166" name=""/>
            <p:cNvSpPr/>
            <p:nvPr/>
          </p:nvSpPr>
          <p:spPr>
            <a:xfrm>
              <a:off x="1994040" y="4149720"/>
              <a:ext cx="203040" cy="180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79560" y="56023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71600" y="3052800"/>
              <a:ext cx="1689120" cy="1106280"/>
              <a:chOff x="471600" y="3052800"/>
              <a:chExt cx="1689120" cy="110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1600" y="3052800"/>
                <a:ext cx="1689120" cy="1106280"/>
                <a:chOff x="471600" y="3052800"/>
                <a:chExt cx="1689120" cy="1106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1600" y="305280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9520" y="344628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5840" y="347328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Material Cre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320" y="307800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4600" y="311292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40" y="4468680"/>
            <a:ext cx="129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l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85600" y="171468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600" y="3193920"/>
            <a:ext cx="983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9080" y="444816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280" y="83016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5349960"/>
            <a:ext cx="193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32120" y="488124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5760" y="5749560"/>
            <a:ext cx="2270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5749920"/>
            <a:ext cx="227016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" y="5916600"/>
            <a:ext cx="8582040" cy="468360"/>
          </a:xfrm>
          <a:prstGeom prst="rightArrow">
            <a:avLst>
              <a:gd name="adj1" fmla="val 50000"/>
              <a:gd name="adj2" fmla="val 45809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2532240"/>
            <a:ext cx="10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31080" y="2541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08960" y="1308240"/>
            <a:ext cx="0" cy="31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8960" y="4304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165096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3421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2494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40" y="4008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880" y="31989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24177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2475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0" y="37260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270400" y="1422360"/>
            <a:ext cx="3538800" cy="4664160"/>
            <a:chOff x="5270400" y="1422360"/>
            <a:chExt cx="3538800" cy="4664160"/>
          </a:xfrm>
        </p:grpSpPr>
        <p:grpSp>
          <p:nvGrpSpPr>
            <p:cNvPr id="200" name=""/>
            <p:cNvGrpSpPr/>
            <p:nvPr/>
          </p:nvGrpSpPr>
          <p:grpSpPr>
            <a:xfrm>
              <a:off x="5270400" y="4881600"/>
              <a:ext cx="3048120" cy="1204920"/>
              <a:chOff x="5270400" y="4881600"/>
              <a:chExt cx="3048120" cy="12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134040" y="5345280"/>
                <a:ext cx="138420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ingle-Sign-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ole: 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32440" y="4881600"/>
                <a:ext cx="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70400" y="5740560"/>
                <a:ext cx="8636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18240" y="5740560"/>
                <a:ext cx="80028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4640" y="1427400"/>
              <a:ext cx="288288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7680" y="1770120"/>
              <a:ext cx="27687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680" y="2176560"/>
              <a:ext cx="1295280" cy="1104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2160" y="2163960"/>
              <a:ext cx="1409400" cy="17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136960"/>
              <a:ext cx="149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3720" y="2641680"/>
              <a:ext cx="115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6720" y="1422360"/>
              <a:ext cx="29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4440" y="1806480"/>
              <a:ext cx="28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ample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4760" y="397368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9360" y="3930840"/>
              <a:ext cx="150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5160" y="214812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2000" y="312912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496000" y="4444560"/>
              <a:ext cx="12600" cy="4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27800" y="3276720"/>
              <a:ext cx="1454400" cy="1152360"/>
              <a:chOff x="7327800" y="3276720"/>
              <a:chExt cx="1454400" cy="1152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99440" y="3324240"/>
                <a:ext cx="1295280" cy="110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1040" y="3333960"/>
                <a:ext cx="1446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I-View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ata On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27800" y="3959280"/>
                <a:ext cx="1454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uides 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89880" y="3276720"/>
                <a:ext cx="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560" y="3907080"/>
                <a:ext cx="1047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10884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5640" y="38862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6280" y="1422360"/>
            <a:ext cx="5278680" cy="3459240"/>
            <a:chOff x="206280" y="1422360"/>
            <a:chExt cx="5278680" cy="3459240"/>
          </a:xfrm>
        </p:grpSpPr>
        <p:sp>
          <p:nvSpPr>
            <p:cNvPr id="228" name=""/>
            <p:cNvSpPr/>
            <p:nvPr/>
          </p:nvSpPr>
          <p:spPr>
            <a:xfrm>
              <a:off x="214200" y="14274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" y="17827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4880" y="2138400"/>
              <a:ext cx="14094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43200" y="3075120"/>
              <a:ext cx="1422360" cy="89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7880" y="2098800"/>
              <a:ext cx="14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520" y="30290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3240" y="213840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1720" y="207324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4960" y="2514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760" y="352260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sting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0080" y="2635200"/>
              <a:ext cx="138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280" y="14223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360" y="1806480"/>
              <a:ext cx="485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Material 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440" y="402444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3375000"/>
              <a:ext cx="1422360" cy="1092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3080" y="334656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9920" y="3819600"/>
              <a:ext cx="12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uides ans Sp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520" y="399420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9720" y="2925720"/>
              <a:ext cx="142236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200" y="28609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080" y="330192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240" y="373212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20" y="36673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4960" y="410868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3200" y="2138400"/>
              <a:ext cx="1409760" cy="874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27360" y="208620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0720" y="258444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ssor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1560" y="263376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5440" y="26337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35434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0440" y="38610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320" y="33400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320" y="41403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880" y="25495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76920" y="4203720"/>
            <a:ext cx="12445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480" y="1440000"/>
            <a:ext cx="2401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M Enterpris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cp:keywords>Business Process</cp:keywords>
  <dc:language>en-US</dc:language>
  <cp:lastModifiedBy>d031429</cp:lastModifiedBy>
  <cp:lastPrinted>2000-05-10T17:23:18Z</cp:lastPrinted>
  <dcterms:modified xsi:type="dcterms:W3CDTF">2003-12-14T10:44:22Z</dcterms:modified>
  <cp:revision>463</cp:revision>
  <dc:subject/>
  <dc:title>Portal Relevant Process Scenario</dc:title>
</cp:coreProperties>
</file>