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E23C9A22-A4C3-43F7-BEC0-EFB162BA699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2031840"/>
            <a:ext cx="373392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ortal De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Typ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134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 guarantee a stabil portal platform and equally enforce conten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actuality and attractiviness, the following basic deployment typ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should be distinguish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ent Staging and Content Manage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 Development Deploy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ll Deploymen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ly for building up new Portal Syste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se deployment „types“ can be distinguished in terms of process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cycle, responsibility and master portal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other issue is the management of platform hotfixes and patch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-&gt; separate strategy required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936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Staging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244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„intranet“ content, which is created by an editorial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process – content gets displayed via standard Intranet-iViews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(integrated WCM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ation and change of static content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roval and release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into portal via iView (new or existing inst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of new iView in portal page (exi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ad hoc - week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Edi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Manage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3680" y="1314000"/>
            <a:ext cx="8178840" cy="34009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maintenace of roles, worksets and page layou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tenance of the portal content objects via administration functions of the editorial portal (RedPr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1-2 wee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Content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3040" y="33768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ini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iViews (properties, code cor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or iView develop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recti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month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ation of new content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 iviews,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tform modifications, branding and lay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3-6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Path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32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9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6440" y="4648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640" y="28130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e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2640" y="1100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990720" y="5333760"/>
            <a:ext cx="958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7400" y="5487840"/>
            <a:ext cx="26028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22480" y="5487840"/>
            <a:ext cx="27792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21080" y="36878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83040" y="1649160"/>
            <a:ext cx="2766960" cy="14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523960" y="184464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82680" y="1486080"/>
            <a:ext cx="2741400" cy="13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S00103_" descr=""/>
          <p:cNvPicPr/>
          <p:nvPr/>
        </p:nvPicPr>
        <p:blipFill>
          <a:blip r:embed="rId1"/>
          <a:stretch/>
        </p:blipFill>
        <p:spPr>
          <a:xfrm>
            <a:off x="2190600" y="84600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4" name="BS00103_" descr=""/>
          <p:cNvPicPr/>
          <p:nvPr/>
        </p:nvPicPr>
        <p:blipFill>
          <a:blip r:embed="rId2"/>
          <a:stretch/>
        </p:blipFill>
        <p:spPr>
          <a:xfrm>
            <a:off x="5951520" y="8668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BS00103_" descr=""/>
          <p:cNvPicPr/>
          <p:nvPr/>
        </p:nvPicPr>
        <p:blipFill>
          <a:blip r:embed="rId3"/>
          <a:stretch/>
        </p:blipFill>
        <p:spPr>
          <a:xfrm>
            <a:off x="2209680" y="25732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BS00103_" descr=""/>
          <p:cNvPicPr/>
          <p:nvPr/>
        </p:nvPicPr>
        <p:blipFill>
          <a:blip r:embed="rId4"/>
          <a:stretch/>
        </p:blipFill>
        <p:spPr>
          <a:xfrm>
            <a:off x="2265480" y="4411800"/>
            <a:ext cx="847440" cy="95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2676600" y="185544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7560" y="1095480"/>
            <a:ext cx="17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Prod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ditorial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127620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ad hoc/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29280" y="216540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-6 Mo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0560" y="38289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6240" y="20178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58320" y="19875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9680" y="4618080"/>
            <a:ext cx="32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tform and new master iView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2160" y="4662360"/>
            <a:ext cx="47952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4520" y="3313080"/>
            <a:ext cx="223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ther content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3000" y="2768760"/>
            <a:ext cx="485640" cy="458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Deployment Strategy</dc:description>
  <dc:language>en-US</dc:language>
  <cp:lastModifiedBy>d031429</cp:lastModifiedBy>
  <cp:lastPrinted>2000-05-10T17:23:18Z</cp:lastPrinted>
  <dcterms:modified xsi:type="dcterms:W3CDTF">2003-11-27T18:59:31Z</dcterms:modified>
  <cp:revision>465</cp:revision>
  <dc:subject/>
  <dc:title>EP Sample Deployment Strategy</dc:title>
</cp:coreProperties>
</file>