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085A896-1833-4AEB-B2C2-FCC342BA972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2286000"/>
            <a:ext cx="838080" cy="276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4290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33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676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ail System 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632484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car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065400"/>
            <a:ext cx="12193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life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8108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favori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0068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52280"/>
            <a:ext cx="25146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service co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71748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c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vel 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066680"/>
            <a:ext cx="76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l resources reser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10494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on work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3520"/>
            <a:ext cx="22860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News Ro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92400"/>
            <a:ext cx="13716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6926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4572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mpany sh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92400"/>
            <a:ext cx="7617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eb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666880"/>
            <a:ext cx="7621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ho’s wh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39732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Codes &amp; val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590920"/>
            <a:ext cx="76176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ofile &amp; strate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76236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esentation tool b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95920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298620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67280"/>
            <a:ext cx="762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andard company pre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ogos, pict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Visual ch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428292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fig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51656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55616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3214800"/>
            <a:ext cx="60984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ission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 brief..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ructure organiz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5394240"/>
            <a:ext cx="6098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ual rep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any leafl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8164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rep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3946680"/>
            <a:ext cx="60984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ducts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2349360"/>
            <a:ext cx="1600200" cy="210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685800"/>
            <a:ext cx="7617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ime tab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an hot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train / plane tick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nt a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08040"/>
            <a:ext cx="7621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eting ro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at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T equi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295280"/>
            <a:ext cx="91440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mall ad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est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Weather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nd e-mail to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5238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o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10670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jor 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on this 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Do’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Appr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nding requ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le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ush of specific events (survey.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826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0112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47760"/>
            <a:ext cx="12193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no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Health &amp; enviro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“</a:t>
            </a: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regulation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nergy saving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keting &amp; sponso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ustainable developpement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79524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160020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069920"/>
            <a:ext cx="914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partment 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mployee not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8088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business knwol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90180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spac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44" idx="3"/>
            <a:endCxn id="54" idx="1"/>
          </p:cNvCxnSpPr>
          <p:nvPr/>
        </p:nvCxnSpPr>
        <p:spPr>
          <a:xfrm flipV="1">
            <a:off x="5410080" y="267840"/>
            <a:ext cx="1067400" cy="2156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7" name=""/>
          <p:cNvSpPr/>
          <p:nvPr/>
        </p:nvSpPr>
        <p:spPr>
          <a:xfrm>
            <a:off x="76320" y="3321000"/>
            <a:ext cx="9903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ssage from HR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ntact 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AQ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ou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235400"/>
            <a:ext cx="99036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ganizat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ofess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al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1480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tock op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04684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Pen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79132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nsur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12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ay sli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ax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41972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35268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720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8769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81280"/>
            <a:ext cx="8380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metho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appli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lf assessment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etenc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p 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der for the fu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102280"/>
            <a:ext cx="83808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Gener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Jobs (consult &amp; appl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973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2228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follow-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83808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profiling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701880"/>
            <a:ext cx="83808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poli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catalo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540320"/>
            <a:ext cx="83808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evious trai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970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Joining 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80200"/>
            <a:ext cx="99036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tional assig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52261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Leaving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47200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75928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areer brea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005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ork / travel accid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386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ime &amp; Expen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672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h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79584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324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137160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ivate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compan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uel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52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13864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5040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orporate Credit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632628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twork , Mobile equipment, SW, Acc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39000"/>
            <a:ext cx="762120" cy="1854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039000"/>
            <a:ext cx="114300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uggestion bo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44" idx="1"/>
            <a:endCxn id="48" idx="0"/>
          </p:cNvCxnSpPr>
          <p:nvPr/>
        </p:nvCxnSpPr>
        <p:spPr>
          <a:xfrm flipV="1" rot="10800000">
            <a:off x="3314160" y="2424240"/>
            <a:ext cx="1257840" cy="31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44" idx="1"/>
            <a:endCxn id="45" idx="3"/>
          </p:cNvCxnSpPr>
          <p:nvPr/>
        </p:nvCxnSpPr>
        <p:spPr>
          <a:xfrm rot="10800000">
            <a:off x="3657600" y="344160"/>
            <a:ext cx="914760" cy="208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44" idx="1"/>
            <a:endCxn id="93" idx="1"/>
          </p:cNvCxnSpPr>
          <p:nvPr/>
        </p:nvCxnSpPr>
        <p:spPr>
          <a:xfrm rot="10800000">
            <a:off x="4191120" y="480960"/>
            <a:ext cx="381240" cy="194364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44" idx="1"/>
            <a:endCxn id="94" idx="1"/>
          </p:cNvCxnSpPr>
          <p:nvPr/>
        </p:nvCxnSpPr>
        <p:spPr>
          <a:xfrm rot="10800000">
            <a:off x="4191120" y="1001520"/>
            <a:ext cx="381240" cy="142272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8153280" y="76212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1500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5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T equipment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amily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75632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Abs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3581280"/>
            <a:ext cx="1219320" cy="109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egnan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child (birth, adop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chi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riage or cohab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spo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ivorce or sepa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ath of a rel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ther (holy communions, jury duty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029200"/>
            <a:ext cx="121932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ll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leave for specific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 for family reas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Youth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educational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cuperation over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05160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Bank chan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76320"/>
            <a:ext cx="152388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62712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13508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06-26T15:05:15Z</dcterms:modified>
  <cp:revision>455</cp:revision>
  <dc:subject/>
  <dc:title>Sample Kick-Off Meeting Presentation</dc:title>
</cp:coreProperties>
</file>