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CD707D56-2C07-4C23-A659-BF425727934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57200" y="1916280"/>
            <a:ext cx="8305920" cy="444240"/>
            <a:chOff x="457200" y="1916280"/>
            <a:chExt cx="8305920" cy="444240"/>
          </a:xfrm>
        </p:grpSpPr>
        <p:sp>
          <p:nvSpPr>
            <p:cNvPr id="46" name=""/>
            <p:cNvSpPr/>
            <p:nvPr/>
          </p:nvSpPr>
          <p:spPr>
            <a:xfrm>
              <a:off x="7391520" y="1916280"/>
              <a:ext cx="1371600" cy="44424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7200" y="1916280"/>
              <a:ext cx="7162920" cy="4442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4686480" y="19461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92160" y="2360520"/>
            <a:ext cx="0" cy="1470240"/>
          </a:xfrm>
          <a:prstGeom prst="line">
            <a:avLst/>
          </a:prstGeom>
          <a:ln w="38160">
            <a:solidFill>
              <a:srgbClr val="dada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32320" y="1938240"/>
            <a:ext cx="0" cy="1892520"/>
          </a:xfrm>
          <a:prstGeom prst="line">
            <a:avLst/>
          </a:prstGeom>
          <a:ln w="12600">
            <a:solidFill>
              <a:srgbClr val="dada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1938240"/>
            <a:ext cx="0" cy="1892520"/>
          </a:xfrm>
          <a:prstGeom prst="line">
            <a:avLst/>
          </a:prstGeom>
          <a:ln w="12600">
            <a:solidFill>
              <a:srgbClr val="dada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9280" y="1916280"/>
            <a:ext cx="0" cy="1914480"/>
          </a:xfrm>
          <a:prstGeom prst="line">
            <a:avLst/>
          </a:prstGeom>
          <a:ln w="12600">
            <a:solidFill>
              <a:srgbClr val="dada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15280" y="19461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2004 -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3693960"/>
            <a:ext cx="411480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7840" y="3529080"/>
            <a:ext cx="1395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</a:rPr>
              <a:t>Set-up c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62040" y="196704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36840" y="207324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To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53640" y="3000240"/>
            <a:ext cx="2717640" cy="525600"/>
          </a:xfrm>
          <a:prstGeom prst="parallelogram">
            <a:avLst>
              <a:gd name="adj" fmla="val 60993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43036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EBL Infin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92160" y="33019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676767"/>
                </a:solidFill>
                <a:latin typeface="Arial"/>
              </a:rPr>
              <a:t>Other 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0720" y="2440080"/>
            <a:ext cx="1441440" cy="108576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085760"/>
              <a:gd name="textAreaBottom" fmla="*/ 1086120 h 108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p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4274280" y="3000240"/>
            <a:ext cx="2202120" cy="525600"/>
          </a:xfrm>
          <a:prstGeom prst="parallelogram">
            <a:avLst>
              <a:gd name="adj" fmla="val 59044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 Phase I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853640" y="2440080"/>
            <a:ext cx="4622760" cy="523800"/>
          </a:xfrm>
          <a:prstGeom prst="parallelogram">
            <a:avLst>
              <a:gd name="adj" fmla="val 56139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6502320" y="2440080"/>
            <a:ext cx="1866960" cy="1085040"/>
            <a:chOff x="6502320" y="2440080"/>
            <a:chExt cx="1866960" cy="1085040"/>
          </a:xfrm>
        </p:grpSpPr>
        <p:sp>
          <p:nvSpPr>
            <p:cNvPr id="65" name=""/>
            <p:cNvSpPr/>
            <p:nvPr/>
          </p:nvSpPr>
          <p:spPr>
            <a:xfrm flipH="1" flipV="1">
              <a:off x="6502320" y="2999520"/>
              <a:ext cx="1866960" cy="525240"/>
            </a:xfrm>
            <a:prstGeom prst="parallelogram">
              <a:avLst>
                <a:gd name="adj" fmla="val 50092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oll-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6502320" y="2440080"/>
              <a:ext cx="1866960" cy="523440"/>
            </a:xfrm>
            <a:prstGeom prst="parallelogram">
              <a:avLst>
                <a:gd name="adj" fmla="val 5026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Up-gra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317680" y="3008160"/>
            <a:ext cx="2222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tailed Road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83560" y="3865680"/>
            <a:ext cx="1206360" cy="514080"/>
          </a:xfrm>
          <a:prstGeom prst="rect">
            <a:avLst/>
          </a:prstGeom>
          <a:solidFill>
            <a:srgbClr val="da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To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125080" y="3865680"/>
            <a:ext cx="2306520" cy="514080"/>
          </a:xfrm>
          <a:prstGeom prst="rect">
            <a:avLst/>
          </a:prstGeom>
          <a:solidFill>
            <a:srgbClr val="da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To be done until the end of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5040" y="4379760"/>
            <a:ext cx="1257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nctional requi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. S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uidelines &amp; portal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ck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gram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25800" y="4443480"/>
            <a:ext cx="320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iver Quick Wins: Intranet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pare ESS for 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ntory existing intranet/internet content across Bus, confirm sav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l Release Plan and Sounding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lize governance: consolidated reporting, eBusiness Guide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pare 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40040" y="4379760"/>
            <a:ext cx="0" cy="1563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5000" y="206280"/>
            <a:ext cx="369360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gh Level Portal Project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Sample High Level Project Plan</dc:description>
  <cp:keywords>Project Plan</cp:keywords>
  <dc:language>en-US</dc:language>
  <cp:lastModifiedBy>d031429</cp:lastModifiedBy>
  <cp:lastPrinted>2000-05-10T17:23:18Z</cp:lastPrinted>
  <dcterms:modified xsi:type="dcterms:W3CDTF">2003-11-20T11:48:07Z</dcterms:modified>
  <cp:revision>457</cp:revision>
  <dc:subject/>
  <dc:title>Sample High Level Project Plan</dc:title>
</cp:coreProperties>
</file>