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7088188" cy="10223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3000" y="363276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376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852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3404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300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852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3404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03000" y="914040"/>
            <a:ext cx="817884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817884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03360" y="114480"/>
            <a:ext cx="83772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3000" y="914040"/>
            <a:ext cx="817884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9376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03000" y="363276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9376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6852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3404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0300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6852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3404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817884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3360" y="114480"/>
            <a:ext cx="83772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376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738840"/>
            <a:chOff x="0" y="0"/>
            <a:chExt cx="9144000" cy="67388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596880" cy="596880"/>
            </a:xfrm>
            <a:prstGeom prst="rect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96880" y="0"/>
              <a:ext cx="8547120" cy="5968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403200" y="198360"/>
              <a:ext cx="193680" cy="198360"/>
            </a:xfrm>
            <a:prstGeom prst="rect">
              <a:avLst/>
            </a:prstGeom>
            <a:solidFill>
              <a:srgbClr val="f0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" name="" descr=""/>
            <p:cNvPicPr/>
            <p:nvPr/>
          </p:nvPicPr>
          <p:blipFill>
            <a:blip r:embed="rId2"/>
            <a:stretch/>
          </p:blipFill>
          <p:spPr>
            <a:xfrm>
              <a:off x="5348160" y="6365880"/>
              <a:ext cx="361008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03000" y="914040"/>
            <a:ext cx="817884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292320">
              <a:spcBef>
                <a:spcPts val="1874"/>
              </a:spcBef>
              <a:buClr>
                <a:srgbClr val="000000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27000" indent="-234720">
              <a:spcBef>
                <a:spcPts val="1874"/>
              </a:spcBef>
              <a:buClr>
                <a:srgbClr val="000000"/>
              </a:buClr>
              <a:buSzPct val="80000"/>
              <a:buFont typeface="Wingding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11120" indent="-198360">
              <a:spcBef>
                <a:spcPts val="1874"/>
              </a:spcBef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874"/>
              </a:spcBef>
              <a:buClr>
                <a:srgbClr val="333333"/>
              </a:buClr>
              <a:buSzPct val="8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874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874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122400" y="6668640"/>
            <a:ext cx="357336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146160" indent="-146160">
              <a:lnSpc>
                <a:spcPct val="90000"/>
              </a:lnSpc>
              <a:buClr>
                <a:srgbClr val="333333"/>
              </a:buClr>
              <a:buSzPct val="120000"/>
              <a:buFont typeface="Symbol" charset="2"/>
              <a:buChar char="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700" spc="-1" strike="noStrike">
                <a:solidFill>
                  <a:srgbClr val="333333"/>
                </a:solidFill>
                <a:latin typeface="Arial"/>
              </a:rPr>
              <a:t>SAP AG</a:t>
            </a:r>
            <a:r>
              <a:rPr b="0" lang="en-US" sz="700" spc="-1" strike="noStrike">
                <a:solidFill>
                  <a:srgbClr val="333333"/>
                </a:solidFill>
                <a:latin typeface="Arial"/>
              </a:rPr>
              <a:t> 2003, Title of Presentation, Speaker Name </a:t>
            </a:r>
            <a:r>
              <a:rPr b="0" lang="de-DE" sz="700" spc="-1" strike="noStrike">
                <a:solidFill>
                  <a:srgbClr val="333333"/>
                </a:solidFill>
                <a:latin typeface="Arial"/>
              </a:rPr>
              <a:t>/</a:t>
            </a:r>
            <a:r>
              <a:rPr b="0" lang="en-US" sz="700" spc="-1" strike="noStrike">
                <a:solidFill>
                  <a:srgbClr val="333333"/>
                </a:solidFill>
                <a:latin typeface="Arial"/>
              </a:rPr>
              <a:t> </a:t>
            </a:r>
            <a:fld id="{A413919F-44F9-45C5-8904-D5855C40BF58}" type="slidenum">
              <a:rPr b="0" lang="en-US" sz="7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6738840"/>
            <a:chOff x="0" y="0"/>
            <a:chExt cx="9144000" cy="6738840"/>
          </a:xfrm>
        </p:grpSpPr>
        <p:sp>
          <p:nvSpPr>
            <p:cNvPr id="45" name=""/>
            <p:cNvSpPr/>
            <p:nvPr/>
          </p:nvSpPr>
          <p:spPr>
            <a:xfrm>
              <a:off x="0" y="0"/>
              <a:ext cx="2805120" cy="3164040"/>
            </a:xfrm>
            <a:prstGeom prst="rect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805120" y="0"/>
              <a:ext cx="6338880" cy="31640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478240" y="1127160"/>
              <a:ext cx="326880" cy="352440"/>
            </a:xfrm>
            <a:prstGeom prst="rect">
              <a:avLst/>
            </a:prstGeom>
            <a:solidFill>
              <a:srgbClr val="f0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5348160" y="6365880"/>
              <a:ext cx="361008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20600" y="1000080"/>
            <a:ext cx="6156360" cy="21528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90440" indent="0" algn="ctr">
              <a:spcBef>
                <a:spcPts val="451"/>
              </a:spcBef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92280" algn="ctr">
              <a:spcBef>
                <a:spcPts val="400"/>
              </a:spcBef>
              <a:spcAft>
                <a:spcPts val="99"/>
              </a:spcAft>
              <a:buClr>
                <a:srgbClr val="000000"/>
              </a:buClr>
              <a:buSzPct val="80000"/>
              <a:buFont typeface="Wingding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112760" algn="ctr">
              <a:spcBef>
                <a:spcPts val="349"/>
              </a:spcBef>
              <a:spcAft>
                <a:spcPts val="88"/>
              </a:spcAft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spcAft>
                <a:spcPts val="88"/>
              </a:spcAft>
              <a:buClr>
                <a:srgbClr val="333333"/>
              </a:buClr>
              <a:buSzPct val="8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333333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333333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805120" y="0"/>
            <a:ext cx="6338880" cy="316224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92000" y="3616200"/>
            <a:ext cx="6156360" cy="21528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Arial Black"/>
              </a:rPr>
              <a:t>ASAP for Enterprise Portal</a:t>
            </a:r>
            <a:r>
              <a:rPr b="0" lang="de-DE" sz="2800" spc="-1" strike="noStrike">
                <a:solidFill>
                  <a:srgbClr val="000000"/>
                </a:solidFill>
                <a:latin typeface="Arial Black"/>
              </a:rPr>
              <a:t> </a:t>
            </a:r>
            <a:br>
              <a:rPr sz="2800"/>
            </a:b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 Black"/>
              </a:rPr>
              <a:t>HIGH LEVEL Roadmap Description (Deliverables)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rot="5400000">
            <a:off x="1988280" y="-1396080"/>
            <a:ext cx="5167080" cy="9144000"/>
          </a:xfrm>
          <a:custGeom>
            <a:avLst/>
            <a:gdLst>
              <a:gd name="textAreaLeft" fmla="*/ 0 w 5167080"/>
              <a:gd name="textAreaRight" fmla="*/ 5167440 w 5167080"/>
              <a:gd name="textAreaTop" fmla="*/ 0 h 9144000"/>
              <a:gd name="textAreaBottom" fmla="*/ 9144360 h 914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790800" y="2644920"/>
            <a:ext cx="1478160" cy="0"/>
          </a:xfrm>
          <a:prstGeom prst="line">
            <a:avLst/>
          </a:prstGeom>
          <a:ln w="12600">
            <a:solidFill>
              <a:srgbClr val="003366"/>
            </a:solidFill>
            <a:prstDash val="lgDash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29520" y="4834080"/>
            <a:ext cx="2632680" cy="337320"/>
          </a:xfrm>
          <a:prstGeom prst="rect">
            <a:avLst/>
          </a:prstGeom>
          <a:solidFill>
            <a:srgbClr val="ffecc5"/>
          </a:solidFill>
          <a:ln w="12600">
            <a:solidFill>
              <a:srgbClr val="66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rtal Operation Conce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2857680" y="609120"/>
            <a:ext cx="3271680" cy="457200"/>
          </a:xfrm>
          <a:custGeom>
            <a:avLst/>
            <a:gdLst>
              <a:gd name="textAreaLeft" fmla="*/ 719280 w 3271680"/>
              <a:gd name="textAreaRight" fmla="*/ 2552400 w 327168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ecc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 Black"/>
              </a:rPr>
              <a:t>Project Preparation and Business Blueprint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"/>
          <p:cNvSpPr/>
          <p:nvPr/>
        </p:nvSpPr>
        <p:spPr>
          <a:xfrm>
            <a:off x="5280840" y="2023920"/>
            <a:ext cx="2895120" cy="702360"/>
          </a:xfrm>
          <a:prstGeom prst="rect">
            <a:avLst/>
          </a:prstGeom>
          <a:solidFill>
            <a:srgbClr val="ffeaaf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rtal User Interface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ital Corporate Identity...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6600" y="2643120"/>
            <a:ext cx="4079880" cy="1906560"/>
          </a:xfrm>
          <a:prstGeom prst="rect">
            <a:avLst/>
          </a:prstGeom>
          <a:solidFill>
            <a:srgbClr val="ffeaaf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06400" y="3341520"/>
            <a:ext cx="1143000" cy="85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66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equirements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Core Business</a:t>
            </a:r>
            <a:br>
              <a:rPr sz="1000"/>
            </a:b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Process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Intelligence</a:t>
            </a:r>
            <a:br>
              <a:rPr sz="1000"/>
            </a:b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Cont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981080" y="3848040"/>
            <a:ext cx="1397160" cy="0"/>
          </a:xfrm>
          <a:prstGeom prst="line">
            <a:avLst/>
          </a:prstGeom>
          <a:ln w="12600">
            <a:solidFill>
              <a:srgbClr val="000000"/>
            </a:solidFill>
            <a:prstDash val="dash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136600" y="3341520"/>
            <a:ext cx="1024200" cy="85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66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equirem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Collaborative</a:t>
            </a:r>
            <a:br>
              <a:rPr sz="1000"/>
            </a:b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Func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Knowledge</a:t>
            </a:r>
            <a:br>
              <a:rPr sz="1000"/>
            </a:b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376440" y="3340080"/>
            <a:ext cx="1151280" cy="85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66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equirements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Corporate</a:t>
            </a:r>
            <a:br>
              <a:rPr sz="1000"/>
            </a:b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Inform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Intranet Serv. </a:t>
            </a:r>
            <a:br>
              <a:rPr sz="1000"/>
            </a:b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243080" y="3129120"/>
            <a:ext cx="2624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543040" y="2368440"/>
            <a:ext cx="0" cy="9446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860640" y="3132000"/>
            <a:ext cx="0" cy="1540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22200" y="3138480"/>
            <a:ext cx="12960" cy="1666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575360" y="2670120"/>
            <a:ext cx="18892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Content Bluepr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872080" y="1068480"/>
            <a:ext cx="3243960" cy="337320"/>
          </a:xfrm>
          <a:prstGeom prst="rect">
            <a:avLst/>
          </a:prstGeom>
          <a:solidFill>
            <a:srgbClr val="ffeaaf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Enterprise Strategic Frame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6716880" y="1690560"/>
            <a:ext cx="0" cy="293760"/>
          </a:xfrm>
          <a:prstGeom prst="line">
            <a:avLst/>
          </a:prstGeom>
          <a:ln w="12600">
            <a:solidFill>
              <a:srgbClr val="003366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02160" y="1419120"/>
            <a:ext cx="0" cy="28116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82520" y="6262560"/>
            <a:ext cx="973080" cy="0"/>
          </a:xfrm>
          <a:prstGeom prst="line">
            <a:avLst/>
          </a:prstGeom>
          <a:ln w="1260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032680" y="2903400"/>
            <a:ext cx="820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Usabilty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4686480" y="3575160"/>
            <a:ext cx="537840" cy="1440"/>
          </a:xfrm>
          <a:prstGeom prst="line">
            <a:avLst/>
          </a:prstGeom>
          <a:ln w="12600">
            <a:solidFill>
              <a:srgbClr val="003366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291280" y="3409920"/>
            <a:ext cx="2869920" cy="884880"/>
          </a:xfrm>
          <a:prstGeom prst="rect">
            <a:avLst/>
          </a:prstGeom>
          <a:solidFill>
            <a:srgbClr val="ffeaaf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rtal Content Stru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vigation/Content Matri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al Page Layout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761240" y="2556000"/>
            <a:ext cx="1176480" cy="1212840"/>
          </a:xfrm>
          <a:custGeom>
            <a:avLst/>
            <a:gdLst>
              <a:gd name="textAreaLeft" fmla="*/ 0 w 1176480"/>
              <a:gd name="textAreaRight" fmla="*/ 1176840 w 1176480"/>
              <a:gd name="textAreaTop" fmla="*/ 0 h 1212840"/>
              <a:gd name="textAreaBottom" fmla="*/ 1213200 h 1212840"/>
            </a:gdLst>
            <a:ahLst/>
            <a:rect l="textAreaLeft" t="textAreaTop" r="textAreaRight" b="textAreaBottom"/>
            <a:pathLst>
              <a:path w="21600" h="21600">
                <a:moveTo>
                  <a:pt x="15882" y="4165"/>
                </a:moveTo>
                <a:arcTo wR="-8357" hR="-8357" stAng="-3153008" swAng="-18446992"/>
                <a:lnTo>
                  <a:pt x="0" y="10800"/>
                </a:lnTo>
                <a:arcTo wR="10800" hR="10800" stAng="10800000" swAng="18446992"/>
                <a:lnTo>
                  <a:pt x="2591" y="21517"/>
                </a:lnTo>
                <a:lnTo>
                  <a:pt x="1862" y="16020"/>
                </a:lnTo>
                <a:lnTo>
                  <a:pt x="7360" y="15291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108920" y="2959200"/>
            <a:ext cx="91116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Mock-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6754680" y="2746080"/>
            <a:ext cx="1800" cy="655560"/>
          </a:xfrm>
          <a:prstGeom prst="line">
            <a:avLst/>
          </a:prstGeom>
          <a:ln w="12600">
            <a:solidFill>
              <a:srgbClr val="003366"/>
            </a:solidFill>
            <a:prstDash val="dashDot"/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84320" y="5938920"/>
            <a:ext cx="9730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95120" y="5610240"/>
            <a:ext cx="973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41200" y="5429160"/>
            <a:ext cx="79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600" spc="-1" strike="noStrike">
                <a:solidFill>
                  <a:srgbClr val="000000"/>
                </a:solidFill>
                <a:latin typeface="Arial"/>
              </a:rPr>
              <a:t>INPUT/OUTPU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43000" y="5764320"/>
            <a:ext cx="79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600" spc="-1" strike="noStrike">
                <a:solidFill>
                  <a:srgbClr val="000000"/>
                </a:solidFill>
                <a:latin typeface="Arial"/>
              </a:rPr>
              <a:t>DETAI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33280" y="6103800"/>
            <a:ext cx="79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600" spc="-1" strike="noStrike">
                <a:solidFill>
                  <a:srgbClr val="000000"/>
                </a:solidFill>
                <a:latin typeface="Arial"/>
              </a:rPr>
              <a:t>INFLUENC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908440" y="732960"/>
            <a:ext cx="325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Discovery and 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 flipV="1">
            <a:off x="4149720" y="4548240"/>
            <a:ext cx="1440" cy="270000"/>
          </a:xfrm>
          <a:prstGeom prst="line">
            <a:avLst/>
          </a:prstGeom>
          <a:ln w="12600">
            <a:solidFill>
              <a:srgbClr val="003366"/>
            </a:solidFill>
            <a:prstDash val="lgDashDot"/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6286320" y="5016600"/>
            <a:ext cx="888840" cy="0"/>
          </a:xfrm>
          <a:prstGeom prst="line">
            <a:avLst/>
          </a:prstGeom>
          <a:ln w="12600">
            <a:solidFill>
              <a:srgbClr val="003366"/>
            </a:solidFill>
            <a:prstDash val="lgDashDot"/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47720" y="4249800"/>
            <a:ext cx="120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Business Criti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199320" y="4249800"/>
            <a:ext cx="1488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Non Business Criti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995920" y="6068880"/>
            <a:ext cx="4120200" cy="337320"/>
          </a:xfrm>
          <a:prstGeom prst="rect">
            <a:avLst/>
          </a:prstGeom>
          <a:solidFill>
            <a:srgbClr val="b2b2b2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rtal Project Development Environ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3311640" y="4554000"/>
            <a:ext cx="0" cy="1000440"/>
          </a:xfrm>
          <a:prstGeom prst="line">
            <a:avLst/>
          </a:prstGeom>
          <a:ln w="12600">
            <a:solidFill>
              <a:srgbClr val="003366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222880" y="5173200"/>
            <a:ext cx="0" cy="352440"/>
          </a:xfrm>
          <a:prstGeom prst="line">
            <a:avLst/>
          </a:prstGeom>
          <a:ln w="12600">
            <a:solidFill>
              <a:srgbClr val="003366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212840" y="1023840"/>
            <a:ext cx="1252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ontent</a:t>
            </a:r>
            <a:br>
              <a:rPr sz="1200"/>
            </a:b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mplementation</a:t>
            </a:r>
            <a:br>
              <a:rPr sz="1200"/>
            </a:b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ycles</a:t>
            </a:r>
            <a:r>
              <a:rPr b="1" lang="it-IT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194600" y="4708440"/>
            <a:ext cx="1712520" cy="580680"/>
          </a:xfrm>
          <a:prstGeom prst="rect">
            <a:avLst/>
          </a:prstGeom>
          <a:solidFill>
            <a:srgbClr val="ffecc5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er Mgmt.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urity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949480" y="5554800"/>
            <a:ext cx="4079880" cy="293400"/>
          </a:xfrm>
          <a:prstGeom prst="rect">
            <a:avLst/>
          </a:prstGeom>
          <a:solidFill>
            <a:srgbClr val="f0a000"/>
          </a:solidFill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972600" y="5540400"/>
            <a:ext cx="256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ortal Solution Bluepr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023240" y="5302080"/>
            <a:ext cx="495000" cy="368640"/>
          </a:xfrm>
          <a:custGeom>
            <a:avLst/>
            <a:gdLst/>
            <a:ahLst/>
            <a:rect l="l" t="t" r="r" b="b"/>
            <a:pathLst>
              <a:path w="280" h="232">
                <a:moveTo>
                  <a:pt x="280" y="0"/>
                </a:moveTo>
                <a:lnTo>
                  <a:pt x="280" y="232"/>
                </a:lnTo>
                <a:lnTo>
                  <a:pt x="0" y="232"/>
                </a:lnTo>
              </a:path>
            </a:pathLst>
          </a:custGeom>
          <a:noFill/>
          <a:ln w="12600">
            <a:solidFill>
              <a:srgbClr val="003366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769080" y="4332240"/>
            <a:ext cx="0" cy="122256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5222880" y="5859360"/>
            <a:ext cx="0" cy="184320"/>
          </a:xfrm>
          <a:prstGeom prst="line">
            <a:avLst/>
          </a:prstGeom>
          <a:ln w="12600">
            <a:solidFill>
              <a:srgbClr val="003366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7840" y="1476360"/>
            <a:ext cx="107640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to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55880" y="367020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prstDash val="dash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97560" y="4835520"/>
            <a:ext cx="1846440" cy="337320"/>
          </a:xfrm>
          <a:prstGeom prst="rect">
            <a:avLst/>
          </a:prstGeom>
          <a:solidFill>
            <a:srgbClr val="ffecc5"/>
          </a:solidFill>
          <a:ln w="12600">
            <a:solidFill>
              <a:srgbClr val="66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chnical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879560" y="5181480"/>
            <a:ext cx="1066680" cy="533520"/>
          </a:xfrm>
          <a:custGeom>
            <a:avLst/>
            <a:gdLst/>
            <a:ahLst/>
            <a:rect l="l" t="t" r="r" b="b"/>
            <a:pathLst>
              <a:path w="672" h="304">
                <a:moveTo>
                  <a:pt x="0" y="0"/>
                </a:moveTo>
                <a:lnTo>
                  <a:pt x="0" y="304"/>
                </a:lnTo>
                <a:lnTo>
                  <a:pt x="672" y="304"/>
                </a:lnTo>
              </a:path>
            </a:pathLst>
          </a:custGeom>
          <a:noFill/>
          <a:ln w="12600">
            <a:solidFill>
              <a:srgbClr val="003366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892160" y="4546440"/>
            <a:ext cx="0" cy="279720"/>
          </a:xfrm>
          <a:prstGeom prst="line">
            <a:avLst/>
          </a:prstGeom>
          <a:ln w="12600">
            <a:solidFill>
              <a:srgbClr val="003366"/>
            </a:solidFill>
            <a:prstDash val="dash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450080" y="2031840"/>
            <a:ext cx="2190960" cy="307080"/>
          </a:xfrm>
          <a:prstGeom prst="rect">
            <a:avLst/>
          </a:prstGeom>
          <a:solidFill>
            <a:srgbClr val="ffeaaf"/>
          </a:solidFill>
          <a:ln w="12600">
            <a:solidFill>
              <a:srgbClr val="66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ortal Content Progr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04760" y="676440"/>
            <a:ext cx="1633680" cy="1390320"/>
          </a:xfrm>
          <a:custGeom>
            <a:avLst/>
            <a:gdLst>
              <a:gd name="textAreaLeft" fmla="*/ 0 w 1633680"/>
              <a:gd name="textAreaRight" fmla="*/ 1634040 w 1633680"/>
              <a:gd name="textAreaTop" fmla="*/ 0 h 1390320"/>
              <a:gd name="textAreaBottom" fmla="*/ 1390320 h 1390320"/>
            </a:gdLst>
            <a:ahLst/>
            <a:rect l="textAreaLeft" t="textAreaTop" r="textAreaRight" b="textAreaBottom"/>
            <a:pathLst>
              <a:path w="21600" h="21600">
                <a:moveTo>
                  <a:pt x="15882" y="4165"/>
                </a:moveTo>
                <a:arcTo wR="-8357" hR="-8357" stAng="-3153008" swAng="-18446992"/>
                <a:lnTo>
                  <a:pt x="0" y="10800"/>
                </a:lnTo>
                <a:arcTo wR="10800" hR="10800" stAng="10800000" swAng="18446992"/>
                <a:lnTo>
                  <a:pt x="2591" y="21517"/>
                </a:lnTo>
                <a:lnTo>
                  <a:pt x="1862" y="16020"/>
                </a:lnTo>
                <a:lnTo>
                  <a:pt x="7360" y="15291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00720" y="1695600"/>
            <a:ext cx="220968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576520" y="1695600"/>
            <a:ext cx="1924200" cy="333360"/>
          </a:xfrm>
          <a:custGeom>
            <a:avLst/>
            <a:gdLst/>
            <a:ahLst/>
            <a:rect l="l" t="t" r="r" b="b"/>
            <a:pathLst>
              <a:path w="1212" h="210">
                <a:moveTo>
                  <a:pt x="1212" y="0"/>
                </a:moveTo>
                <a:lnTo>
                  <a:pt x="0" y="0"/>
                </a:lnTo>
                <a:lnTo>
                  <a:pt x="0" y="210"/>
                </a:lnTo>
              </a:path>
            </a:pathLst>
          </a:custGeom>
          <a:noFill/>
          <a:ln w="12600">
            <a:solidFill>
              <a:srgbClr val="003366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904840" y="1711440"/>
            <a:ext cx="61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000" spc="-1" strike="noStrike">
                <a:solidFill>
                  <a:srgbClr val="000000"/>
                </a:solidFill>
                <a:latin typeface="Arial"/>
              </a:rPr>
              <a:t>scop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879560" y="5702400"/>
            <a:ext cx="1092240" cy="533160"/>
          </a:xfrm>
          <a:custGeom>
            <a:avLst/>
            <a:gdLst/>
            <a:ahLst/>
            <a:rect l="l" t="t" r="r" b="b"/>
            <a:pathLst>
              <a:path w="688" h="336">
                <a:moveTo>
                  <a:pt x="0" y="0"/>
                </a:moveTo>
                <a:lnTo>
                  <a:pt x="0" y="336"/>
                </a:lnTo>
                <a:lnTo>
                  <a:pt x="688" y="336"/>
                </a:lnTo>
              </a:path>
            </a:pathLst>
          </a:custGeom>
          <a:noFill/>
          <a:ln w="12600">
            <a:solidFill>
              <a:srgbClr val="003366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 rot="5400000">
            <a:off x="1988280" y="-1396080"/>
            <a:ext cx="5167080" cy="9144000"/>
          </a:xfrm>
          <a:custGeom>
            <a:avLst/>
            <a:gdLst>
              <a:gd name="textAreaLeft" fmla="*/ 0 w 5167080"/>
              <a:gd name="textAreaRight" fmla="*/ 5167440 w 5167080"/>
              <a:gd name="textAreaTop" fmla="*/ 0 h 9144000"/>
              <a:gd name="textAreaBottom" fmla="*/ 9144360 h 914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559840" y="5113440"/>
            <a:ext cx="2373840" cy="580680"/>
          </a:xfrm>
          <a:prstGeom prst="rect">
            <a:avLst/>
          </a:prstGeom>
          <a:solidFill>
            <a:srgbClr val="ffecc5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rtal/Content Admi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d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 Black"/>
              </a:rPr>
              <a:t>Realization and Final Preparation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"/>
          <p:cNvSpPr/>
          <p:nvPr/>
        </p:nvSpPr>
        <p:spPr>
          <a:xfrm>
            <a:off x="5230080" y="2633760"/>
            <a:ext cx="2895120" cy="884880"/>
          </a:xfrm>
          <a:prstGeom prst="rect">
            <a:avLst/>
          </a:prstGeom>
          <a:solidFill>
            <a:srgbClr val="ffecc5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rtal User Interface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ital Corporate Identit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023840" y="3168720"/>
            <a:ext cx="2692440" cy="884880"/>
          </a:xfrm>
          <a:prstGeom prst="rect">
            <a:avLst/>
          </a:prstGeom>
          <a:solidFill>
            <a:srgbClr val="ffecc5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rtal Content Stru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Level Navig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sets, Final Page Layout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204160" y="4478400"/>
            <a:ext cx="3173760" cy="337320"/>
          </a:xfrm>
          <a:prstGeom prst="rect">
            <a:avLst/>
          </a:prstGeom>
          <a:solidFill>
            <a:srgbClr val="b2b2b2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rtal Production Environ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205240" y="1432080"/>
            <a:ext cx="2978280" cy="884880"/>
          </a:xfrm>
          <a:prstGeom prst="rect">
            <a:avLst/>
          </a:prstGeom>
          <a:solidFill>
            <a:srgbClr val="ffecc5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er Management/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r Persist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hentication Procedu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039680" y="2065320"/>
            <a:ext cx="2665440" cy="884880"/>
          </a:xfrm>
          <a:prstGeom prst="rect">
            <a:avLst/>
          </a:prstGeom>
          <a:solidFill>
            <a:srgbClr val="ffecc5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Content Implement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ent Source Integ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ent Objects,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sitories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38080" y="932040"/>
            <a:ext cx="3154320" cy="884880"/>
          </a:xfrm>
          <a:prstGeom prst="rect">
            <a:avLst/>
          </a:prstGeom>
          <a:solidFill>
            <a:srgbClr val="ffecc5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rtal/Content Develop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Vie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Managem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n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127880" y="4313160"/>
            <a:ext cx="2384280" cy="580680"/>
          </a:xfrm>
          <a:prstGeom prst="rect">
            <a:avLst/>
          </a:prstGeom>
          <a:solidFill>
            <a:srgbClr val="ffecc5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nal Confirmation and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st Prepa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387520" y="1841400"/>
            <a:ext cx="0" cy="22860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62320" y="2959200"/>
            <a:ext cx="0" cy="22860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387520" y="4076640"/>
            <a:ext cx="0" cy="22860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530520" y="4635360"/>
            <a:ext cx="1650960" cy="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4698720" y="3086280"/>
            <a:ext cx="50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6730920" y="4838760"/>
            <a:ext cx="0" cy="279360"/>
          </a:xfrm>
          <a:prstGeom prst="line">
            <a:avLst/>
          </a:prstGeom>
          <a:ln w="12600">
            <a:solidFill>
              <a:srgbClr val="000000"/>
            </a:solidFill>
            <a:prstDash val="dash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556080" y="1892160"/>
            <a:ext cx="1650960" cy="2565720"/>
          </a:xfrm>
          <a:custGeom>
            <a:avLst/>
            <a:gdLst/>
            <a:ahLst/>
            <a:rect l="l" t="t" r="r" b="b"/>
            <a:pathLst>
              <a:path w="1040" h="1616">
                <a:moveTo>
                  <a:pt x="1040" y="0"/>
                </a:moveTo>
                <a:lnTo>
                  <a:pt x="720" y="0"/>
                </a:lnTo>
                <a:lnTo>
                  <a:pt x="720" y="1616"/>
                </a:lnTo>
                <a:lnTo>
                  <a:pt x="0" y="1616"/>
                </a:lnTo>
              </a:path>
            </a:pathLst>
          </a:custGeom>
          <a:noFill/>
          <a:ln w="12600">
            <a:solidFill>
              <a:srgbClr val="003366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119400" y="6078600"/>
            <a:ext cx="2487960" cy="337320"/>
          </a:xfrm>
          <a:prstGeom prst="rect">
            <a:avLst/>
          </a:prstGeom>
          <a:solidFill>
            <a:srgbClr val="ffecc5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pproved System Te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95960" y="4826160"/>
            <a:ext cx="0" cy="1244520"/>
          </a:xfrm>
          <a:prstGeom prst="line">
            <a:avLst/>
          </a:prstGeom>
          <a:ln w="12600">
            <a:solidFill>
              <a:srgbClr val="003366"/>
            </a:solidFill>
            <a:prstDash val="dash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416400" y="4902120"/>
            <a:ext cx="0" cy="116856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950240" y="1892160"/>
            <a:ext cx="660240" cy="3530880"/>
          </a:xfrm>
          <a:custGeom>
            <a:avLst/>
            <a:gdLst/>
            <a:ahLst/>
            <a:rect l="l" t="t" r="r" b="b"/>
            <a:pathLst>
              <a:path w="416" h="2224">
                <a:moveTo>
                  <a:pt x="160" y="0"/>
                </a:moveTo>
                <a:lnTo>
                  <a:pt x="416" y="0"/>
                </a:lnTo>
                <a:lnTo>
                  <a:pt x="416" y="2224"/>
                </a:lnTo>
                <a:lnTo>
                  <a:pt x="0" y="2224"/>
                </a:lnTo>
              </a:path>
            </a:pathLst>
          </a:custGeom>
          <a:noFill/>
          <a:ln w="12600">
            <a:solidFill>
              <a:srgbClr val="003366"/>
            </a:solidFill>
            <a:prstDash val="lg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96880" y="2527200"/>
            <a:ext cx="4952880" cy="2946600"/>
          </a:xfrm>
          <a:custGeom>
            <a:avLst/>
            <a:gdLst/>
            <a:ahLst/>
            <a:rect l="l" t="t" r="r" b="b"/>
            <a:pathLst>
              <a:path w="3120" h="1856">
                <a:moveTo>
                  <a:pt x="272" y="0"/>
                </a:moveTo>
                <a:lnTo>
                  <a:pt x="0" y="0"/>
                </a:lnTo>
                <a:lnTo>
                  <a:pt x="0" y="1856"/>
                </a:lnTo>
                <a:lnTo>
                  <a:pt x="3120" y="1840"/>
                </a:lnTo>
              </a:path>
            </a:pathLst>
          </a:custGeom>
          <a:noFill/>
          <a:ln w="12600">
            <a:solidFill>
              <a:srgbClr val="003366"/>
            </a:solidFill>
            <a:prstDash val="dashDot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596880" y="3619440"/>
            <a:ext cx="457200" cy="0"/>
          </a:xfrm>
          <a:prstGeom prst="line">
            <a:avLst/>
          </a:prstGeom>
          <a:ln w="12600">
            <a:solidFill>
              <a:srgbClr val="003366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3T10:20:58Z</dcterms:created>
  <dc:creator>SAP</dc:creator>
  <dc:description>The presentation gives an overview of the basic conept and ideas of the EP ASAP roadmap flavor.</dc:description>
  <dc:language>en-US</dc:language>
  <cp:lastModifiedBy>d031429</cp:lastModifiedBy>
  <dcterms:modified xsi:type="dcterms:W3CDTF">2003-11-21T09:21:28Z</dcterms:modified>
  <cp:revision>117</cp:revision>
  <dc:subject/>
  <dc:title>ASAP for EP High Level Methodology</dc:title>
</cp:coreProperties>
</file>